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E6CDC-1558-4E14-8743-0285A4EB7BA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BECOMING RELAXED AND CONCENTRATED ACTIVITY FOR STU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STUDENTS OF GRADE 10ª  REALLY WORK AS A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CREATIVITY, RESPONSABILITY, AND DED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IMAGINATION AND 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PERFORMING AN EXCELLENT J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SENSITIVITY AND FINENESS ARE DRAWN IN THIS VI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CRUSHED G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GLASS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DESIGNING THE PI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TEAM WORKING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PAINTING THE VITR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VITRAL POLIS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DYNAMIC ACTIVITY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STUDENTS OF GRADE 10B WORKING IN THEIR VITR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4150-AA66-42F5-BE4D-731923C4A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8218-58CF-436C-A482-B22320FD6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4C54-6EDE-4B16-94D1-850AAB931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0D3D-A2B3-4EDB-ABAA-A57653B40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56EAF-9736-4437-ACAB-D7F9897E8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430F5-82BD-4135-A27F-60F30606E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6281E-DB76-4AC4-AF10-80B9C9C8D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96130-884D-49D4-8F88-E03387456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464A6-476B-4598-AB57-3C88A816B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5CA4C-9A59-42BC-9668-32E7555A4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67774-8185-4094-A91C-0E284714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2807-1205-4087-8587-D0810372E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16A2D-6084-49A8-A759-73001512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425E6-5959-492F-B1B8-0D632CF2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F6B80-BAC9-41B6-AF7B-A0A9ED1DA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323AB-AF0F-49D5-9110-40E8719F5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C55EC-C92E-4E47-AE9C-FCE263C47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BB623-DB68-46E1-8CB4-C72F303DA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08C1C-3E34-42E9-9734-C9578CF4E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94121-F309-4E56-9440-80257A267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EB43B-5D71-4281-91D3-7EE2A3A36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76579-5492-4860-AE41-63A9C7C90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DE8C-35AB-40CF-8931-757D12F6A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B2FDC-4574-4EB4-BEF3-A5FECDD3C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761B1-BDF0-448D-8C58-EF45D7C6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DDDDB-53B6-4589-85C6-0B67E82E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4BC99-AD4C-4743-AD54-AADAD66E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82C78-EF52-4D4D-BCBC-1EC08BAB3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1842E-5C68-4A1D-89D1-5166110E7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FB5EB-3EDE-4A0F-9E74-ED4397901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FC1D-2CFC-41F3-84DA-2BFD5099E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F4AD-B4A2-4E24-953E-1B92672CA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D3F5-4E2C-4A46-B379-FCADECD47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58D4-F77A-4342-9B0A-785F496A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A224-A306-4375-8D5A-045674D6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9DD3-7065-4578-92FD-0F5F7E42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1B586-814B-4F9C-ADFE-29205EF320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42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43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7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1708F-C5F6-431E-B56B-02A744A58F5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3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3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4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dt" idx="7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1D9F7-80B6-4401-9D31-0946F2906B3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 rot="5400000">
            <a:off x="2122560" y="2205720"/>
            <a:ext cx="4969080" cy="208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comic"/>
              </a:rPr>
              <a:t>VITRAL</a:t>
            </a:r>
            <a:endParaRPr b="0" i="1" lang="en-US" sz="96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comic"/>
              <a:ea typeface="comic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45:14Z</dcterms:created>
  <dc:creator>SPAWN</dc:creator>
  <dc:description/>
  <dc:language>en-US</dc:language>
  <cp:lastModifiedBy>FABIAN</cp:lastModifiedBy>
  <dcterms:modified xsi:type="dcterms:W3CDTF">2007-08-31T04:44:12Z</dcterms:modified>
  <cp:revision>7</cp:revision>
  <dc:subject/>
  <dc:title>Diapositiva 1</dc:title>
</cp:coreProperties>
</file>