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840-828F-4457-B115-16DD30FB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FA4-35EB-4573-8FF4-851D758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B5B-E8D6-44EF-8375-A35149DB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256-A2B4-4BFB-9B09-5724107D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5B04-3238-459B-9E4C-4B3CADA6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E5A5-E8DD-4B43-9593-0FC7E213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152-9B28-44EB-9C02-0E4C06A1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C97-7311-40EE-A20E-7353396B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2140-A35C-43FC-A93A-8F8093C8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2560" cy="60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D6F-86AC-4887-8CFD-5662B77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0AAE-06C7-43E3-954F-B7FC042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8A8-A8D4-416B-A842-82C17E13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1A5F-6CEC-4A6F-B731-C5E98DB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8A52-A100-49D7-B2DE-BE5B97C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2F2C-CF48-4F36-99EC-2DB0A6D0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66A8-0342-455F-8866-9788AFE6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2AD8-AF65-4804-B279-1AE020A0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4D1-0FEA-4B64-A89A-8D0F16FE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96B-3654-401A-993D-24D70B9E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360-78E4-49A1-89B4-3BDE4B2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2560" cy="60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AE0-4E05-4276-87D5-CC1F948B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942-74B4-47F8-9FB9-31F24499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CB2-E3E5-4B8A-B29C-D3C21AF1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0C7-CC33-4D44-AB0D-DC45D98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5320" y="-92880"/>
            <a:ext cx="2771640" cy="6949440"/>
            <a:chOff x="-85320" y="-92880"/>
            <a:chExt cx="2771640" cy="694944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80" y="3991320"/>
              <a:ext cx="1004040" cy="608040"/>
              <a:chOff x="13680" y="3991320"/>
              <a:chExt cx="1004040" cy="60804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07280" y="3975480"/>
                <a:ext cx="183960" cy="328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75400" y="4267080"/>
                <a:ext cx="314280" cy="272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729360" y="4100400"/>
                <a:ext cx="328680" cy="1382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440" y="2602080"/>
              <a:ext cx="2687760" cy="3117240"/>
              <a:chOff x="-1440" y="2602080"/>
              <a:chExt cx="2687760" cy="311724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385920" y="2698920"/>
                <a:ext cx="9763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102600" y="2842920"/>
                <a:ext cx="815760" cy="1022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356400" y="3053880"/>
                <a:ext cx="290520" cy="5180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882720" y="379368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805680" y="3854160"/>
                <a:ext cx="6516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1400" y="4051440"/>
                <a:ext cx="1834920" cy="1667880"/>
                <a:chOff x="851400" y="4051440"/>
                <a:chExt cx="1834920" cy="166788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260360" y="3945600"/>
                  <a:ext cx="474840" cy="12157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25960" y="4974480"/>
                  <a:ext cx="10980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00200" y="5568840"/>
                  <a:ext cx="199800" cy="8460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35240" y="6211800"/>
              <a:ext cx="857520" cy="572040"/>
              <a:chOff x="435240" y="6211800"/>
              <a:chExt cx="857520" cy="57204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1046160" y="6188760"/>
                <a:ext cx="174960" cy="284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799560" y="6491160"/>
                <a:ext cx="300240" cy="236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374760" y="6385320"/>
                <a:ext cx="312840" cy="120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4280" y="1776600"/>
              <a:ext cx="790560" cy="691560"/>
              <a:chOff x="314280" y="1776600"/>
              <a:chExt cx="790560" cy="69156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840960" y="1747800"/>
                <a:ext cx="20628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96600" y="2153880"/>
                <a:ext cx="35244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214560" y="2205360"/>
                <a:ext cx="36972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7560" cy="581040"/>
              <a:chOff x="1293840" y="0"/>
              <a:chExt cx="547560" cy="58104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9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760" y="103320"/>
                <a:ext cx="296640" cy="182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888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85920" y="540396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423360" y="570240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31320" y="64908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83760" y="119808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76200" y="1143000"/>
              <a:ext cx="986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930240" y="738000"/>
              <a:ext cx="114480" cy="64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88560" y="1314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8FE7E7-B749-46F7-B1E2-33448BA1341F}" type="slidenum">
              <a:rPr b="0" lang="en-GB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19800" y="0"/>
            <a:ext cx="9060480" cy="6858000"/>
            <a:chOff x="-19800" y="0"/>
            <a:chExt cx="906048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394240" y="59760"/>
              <a:ext cx="3646440" cy="6134040"/>
              <a:chOff x="5394240" y="59760"/>
              <a:chExt cx="3646440" cy="613404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6585120" y="34992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7424280" y="1960560"/>
                <a:ext cx="906480" cy="8445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6828840" y="259560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72540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7156800" y="2646360"/>
                <a:ext cx="164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7142040" y="1240560"/>
                <a:ext cx="190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5937840" y="2933640"/>
                <a:ext cx="52380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32400" y="3107880"/>
              <a:ext cx="51264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1425240" y="453348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1266480" y="473040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080" y="1042200"/>
              <a:ext cx="1044360" cy="1261440"/>
              <a:chOff x="4114080" y="1042200"/>
              <a:chExt cx="1044360" cy="126144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4606560" y="1063440"/>
                <a:ext cx="263520" cy="412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4663080" y="1573920"/>
                <a:ext cx="448920" cy="343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4087440" y="1974600"/>
                <a:ext cx="469800" cy="174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703120" y="262440"/>
              <a:ext cx="717120" cy="925920"/>
              <a:chOff x="5703120" y="262440"/>
              <a:chExt cx="717120" cy="92592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5829840" y="894240"/>
                <a:ext cx="250920" cy="258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5668200" y="460440"/>
                <a:ext cx="428760" cy="214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6061680" y="435240"/>
                <a:ext cx="447480" cy="109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360" y="5279760"/>
              <a:ext cx="1063080" cy="838080"/>
              <a:chOff x="954360" y="5279760"/>
              <a:chExt cx="1063080" cy="83808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1699920" y="5551200"/>
                <a:ext cx="25236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1183680" y="5762160"/>
                <a:ext cx="43020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945720" y="5405040"/>
                <a:ext cx="4510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78000" y="424800"/>
              <a:ext cx="1659960" cy="1176120"/>
              <a:chOff x="378000" y="424800"/>
              <a:chExt cx="1659960" cy="117612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1547640" y="1079280"/>
                <a:ext cx="368640" cy="514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986400" y="582120"/>
                <a:ext cx="630360" cy="426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267840" y="1085760"/>
                <a:ext cx="658800" cy="21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840"/>
              <a:ext cx="1157040" cy="1608480"/>
              <a:chOff x="7396560" y="3696840"/>
              <a:chExt cx="1157040" cy="16084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7451640" y="4741560"/>
                <a:ext cx="3571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7902000" y="4442040"/>
                <a:ext cx="60948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7598880" y="376560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3427200" y="164160"/>
              <a:ext cx="108108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3171600" y="1361520"/>
              <a:ext cx="523800" cy="4413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3531960" y="1284480"/>
              <a:ext cx="19512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34527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55A765-D3B8-417D-8BCB-4B299F168A81}" type="slidenum">
              <a:rPr b="0" lang="en-GB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6666"/>
                </a:solidFill>
                <a:latin typeface="comic"/>
              </a:rPr>
              <a:t>GRAMMAR.</a:t>
            </a: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Comic Sans MS"/>
              </a:rPr>
              <a:t>Students of Grade 10th will check their knowledge; they will  read a text about GLASS and they must identify each one of the Grammar concepts according to their Process  in  foreing language (English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AWN</dc:creator>
  <dc:description/>
  <dc:language>en-US</dc:language>
  <cp:lastModifiedBy>FABIAN</cp:lastModifiedBy>
  <cp:revision>0</cp:revision>
  <dc:subject/>
  <dc:title>GRAMMAR.  </dc:title>
</cp:coreProperties>
</file>