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PlaceHolder 1"/>
          <p:cNvSpPr>
            <a:spLocks noGrp="1"/>
          </p:cNvSpPr>
          <p:nvPr>
            <p:ph type="sldImg"/>
          </p:nvPr>
        </p:nvSpPr>
        <p:spPr>
          <a:xfrm>
            <a:off x="-360" y="-8652240"/>
            <a:ext cx="360" cy="18694440"/>
          </a:xfrm>
          <a:prstGeom prst="rect">
            <a:avLst/>
          </a:prstGeom>
          <a:noFill/>
          <a:ln w="0">
            <a:noFill/>
          </a:ln>
        </p:spPr>
        <p:txBody>
          <a:bodyPr lIns="0" rIns="0" tIns="0" bIns="0" anchor="ctr">
            <a:no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3"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D3A5E-1AE1-4CC9-BCB0-C353ED2DF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83764-41CC-4307-9D8E-A92C8867D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BFC78-6F36-4000-975A-E12915FBD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135DC-FE91-43A2-A17B-BDA6916A9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294F47-CE04-4BF2-A4B5-A9C9AB055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29E1B-5D12-48AD-AA34-298EBED8A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1E0CA-22AC-409D-AB1B-44EE76F0A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CC5CE-E013-4842-8754-A71181111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821E3-77AC-4CAB-A049-EDDDDA46C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440" y="1828440"/>
            <a:ext cx="7769160" cy="803628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D6B33-C065-4376-BF5F-623937F27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1F3D4-C975-455F-AA72-7F97456E6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04C78-802C-4427-8A60-A6B0A6A28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E37FD-3542-409A-AFED-336969112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4EE6B-E0BB-4317-B816-2917A6982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EAD6E-CEE9-4B13-AD99-AEF09B947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1E9C2-444D-4F35-829E-4A92EC0CF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B6075-20C1-492C-A030-4B77D3972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04A6F-4310-4FB2-8AD2-21507E4F4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DC2EE-A71C-4899-8EE8-A39C8BD22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9EA5E-8313-44C8-B29E-63AD0D022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440" y="1828440"/>
            <a:ext cx="7769160" cy="803628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030AA-43A2-4813-8F0E-2B92EB667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B1152-2877-4A3D-9A34-2E7F01439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377D5-F9F8-4943-A333-D97718FFB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B9A71-07A9-419E-A2EE-B2FD24EA7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9" name="PlaceHolder 1"/>
          <p:cNvSpPr>
            <a:spLocks noGrp="1"/>
          </p:cNvSpPr>
          <p:nvPr>
            <p:ph type="title"/>
          </p:nvPr>
        </p:nvSpPr>
        <p:spPr>
          <a:xfrm>
            <a:off x="456840" y="131760"/>
            <a:ext cx="8226360" cy="143208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39840" indent="-339840">
              <a:lnSpc>
                <a:spcPct val="86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9800" indent="-282600">
              <a:lnSpc>
                <a:spcPct val="86000"/>
              </a:lnSpc>
              <a:spcBef>
                <a:spcPts val="799"/>
              </a:spcBef>
              <a:buClr>
                <a:srgbClr val="feec94"/>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86000"/>
              </a:lnSpc>
              <a:spcBef>
                <a:spcPts val="799"/>
              </a:spcBef>
              <a:buClr>
                <a:srgbClr val="cccc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86000"/>
              </a:lnSpc>
              <a:spcBef>
                <a:spcPts val="799"/>
              </a:spcBef>
              <a:buClr>
                <a:srgbClr val="ffff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86000"/>
              </a:lnSpc>
              <a:spcBef>
                <a:spcPts val="799"/>
              </a:spcBef>
              <a:buClr>
                <a:srgbClr val="ffff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86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86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7200" y="6248160"/>
            <a:ext cx="2130480" cy="453960"/>
          </a:xfrm>
          <a:prstGeom prst="rect">
            <a:avLst/>
          </a:prstGeom>
          <a:noFill/>
          <a:ln w="0">
            <a:noFill/>
          </a:ln>
        </p:spPr>
        <p:txBody>
          <a:bodyPr lIns="90000" rIns="90000" tIns="46800" bIns="46800" anchor="t">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160"/>
            <a:ext cx="21304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7E2879-4AE8-4D09-AD74-0AAC0463814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9"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dt" idx="4"/>
          </p:nvPr>
        </p:nvSpPr>
        <p:spPr>
          <a:xfrm>
            <a:off x="457200" y="6248160"/>
            <a:ext cx="21304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3080" y="6248160"/>
            <a:ext cx="21304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CA398B8-8F3E-4FC6-9649-0B4F2EFB8AD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86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9800" indent="-282600">
              <a:lnSpc>
                <a:spcPct val="86000"/>
              </a:lnSpc>
              <a:spcBef>
                <a:spcPts val="799"/>
              </a:spcBef>
              <a:buClr>
                <a:srgbClr val="feec94"/>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86000"/>
              </a:lnSpc>
              <a:spcBef>
                <a:spcPts val="799"/>
              </a:spcBef>
              <a:buClr>
                <a:srgbClr val="cccc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86000"/>
              </a:lnSpc>
              <a:spcBef>
                <a:spcPts val="799"/>
              </a:spcBef>
              <a:buClr>
                <a:srgbClr val="ffff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86000"/>
              </a:lnSpc>
              <a:spcBef>
                <a:spcPts val="799"/>
              </a:spcBef>
              <a:buClr>
                <a:srgbClr val="ffff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86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86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0720" y="603000"/>
            <a:ext cx="7772400" cy="1197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5400" spc="-1" strike="noStrike">
                <a:solidFill>
                  <a:srgbClr val="feec94"/>
                </a:solidFill>
                <a:latin typeface="Times New Roman"/>
              </a:rPr>
              <a:t>JUSTIFICATION</a:t>
            </a:r>
            <a:endParaRPr b="1" lang="en-US" sz="5400" spc="-1" strike="noStrike">
              <a:solidFill>
                <a:srgbClr val="feec94"/>
              </a:solidFill>
              <a:latin typeface="Times New Roman"/>
            </a:endParaRPr>
          </a:p>
        </p:txBody>
      </p:sp>
      <p:sp>
        <p:nvSpPr>
          <p:cNvPr id="125" name="PlaceHolder 2"/>
          <p:cNvSpPr>
            <a:spLocks noGrp="1"/>
          </p:cNvSpPr>
          <p:nvPr>
            <p:ph type="subTitle"/>
          </p:nvPr>
        </p:nvSpPr>
        <p:spPr>
          <a:xfrm>
            <a:off x="720720" y="1800360"/>
            <a:ext cx="7740720" cy="4319280"/>
          </a:xfrm>
          <a:prstGeom prst="rect">
            <a:avLst/>
          </a:prstGeom>
          <a:noFill/>
          <a:ln w="0">
            <a:noFill/>
          </a:ln>
        </p:spPr>
        <p:txBody>
          <a:bodyPr lIns="90000" rIns="90000" tIns="46800" bIns="46800" anchor="t">
            <a:noAutofit/>
          </a:bodyPr>
          <a:p>
            <a:pPr indent="0" algn="just">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ntegral process of student concern to explore new academic, technologic,scientific,artistic and ludic fields; which allow  to enter  and choose  among a wide range of posibilities his or her life project; taking into account the student´s knowledge  will be easier, dynamic and objective not only in primary and high school education but also in universitary education. Consequently,  Teachers and students of 10th grade from OUR LADY OF FÁTIMA HIGH SCHOOL - POPAYAN have the opportunity to train with a supporting and handling tool called “FREEMIND” that was directed  by  MEC – CTS  PROJECT from UNIVERSITY OF CAUCA. This tool gives both teachers and students the opportunity to  explore and add information, photos, videos, presentations, using the mental map resourse and its   connectors, nodes,  branches and selectors where is possible to become the most complex  scientific researching  in an accesible and completed procedure to support  any activity without boring or confusing people who use it now that is an objective and exactly program . </a:t>
            </a:r>
            <a:r>
              <a:rPr b="0" lang="en-GB" sz="1600" spc="-1" strike="noStrike">
                <a:solidFill>
                  <a:srgbClr val="ffffff"/>
                </a:solidFill>
                <a:latin typeface="Times New Roman"/>
              </a:rPr>
              <a:t> </a:t>
            </a:r>
            <a:endParaRPr b="0" lang="en-US" sz="1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BIAN</cp:lastModifiedBy>
  <cp:revision>0</cp:revision>
  <dc:subject/>
  <dc:title>PowerPoint Presentation</dc:title>
</cp:coreProperties>
</file>