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E50-E690-49E9-8139-EB436A26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39B-B051-4CC0-AF61-050EE6FC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C6A-D4D2-464A-8FFF-490901E1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82A-A822-46F6-AEDB-1E8E2783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E5DB-5A2A-4C18-8206-78875D2F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EE22-E872-4E0D-B960-AA27E77B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0B38-BB04-4FA5-B58E-7B774DFF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CD94-E86A-4525-9BD5-B17E4871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5DF5-3099-4FF9-B5A3-C6F2CEA7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2CD4-F1E1-4300-903F-4296EDF9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45ED-5E29-4AA6-87D7-C7A51985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B22-2BBF-46C5-92D2-E13E376C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6368-6652-4C3C-9A37-A07509FE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BFF6-F9CC-40B4-BEFE-DDBD0049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48F3-3843-4F84-BD4E-CB19A323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6B62-0C78-4D11-9897-F4BB421F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622A-69EF-4CC0-B5BF-C0E7ADAA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F98-7928-4DFD-9F21-76E2AC3D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06B-A958-4589-A485-111F7526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12D-9C68-4027-BA45-462B8D3D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30B-36F8-43FB-B5DC-6C390A58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C3E-08D4-404E-AB35-AD6ED6FE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4B2-94C6-49FF-8D23-8747A090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C45-0746-4B13-A5A5-D973002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0FAF-FC1D-4466-BA88-C1971BF0A9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F373-5CD0-45BC-854F-59DF736FE8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ccecff"/>
                </a:solidFill>
                <a:latin typeface="comic"/>
              </a:rPr>
              <a:t>METHODOLOGY.</a:t>
            </a:r>
            <a:r>
              <a:rPr b="0" lang="es-CO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CO" sz="3200" spc="-1" strike="noStrike">
                <a:solidFill>
                  <a:srgbClr val="ffffff"/>
                </a:solidFill>
                <a:latin typeface="Comic Sans MS"/>
              </a:rPr>
              <a:t>Students of Grade 10th were trained to use the Mental Maps through Free Mind Program, which will be a tool for processing the project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“Helping the planet”, the explanation of doing Vitrals and Jclic games that is based on GLASS RECYCLING as solid residue  residue, its  benefits and different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2:51:09Z</dcterms:created>
  <dc:creator>SPAWN</dc:creator>
  <dc:description/>
  <dc:language>en-US</dc:language>
  <cp:lastModifiedBy>FABIAN</cp:lastModifiedBy>
  <dcterms:modified xsi:type="dcterms:W3CDTF">2007-08-31T05:33:37Z</dcterms:modified>
  <cp:revision>5</cp:revision>
  <dc:subject/>
  <dc:title>METODOLOGÍA. </dc:title>
</cp:coreProperties>
</file>