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2F67-3A1C-45D1-ABB1-961AD9E6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4669-6FE9-4F73-89D4-431E1126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7376-1615-4D84-AFE4-0F6A3E90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16A5-5940-456C-A490-2119369B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B3F6-2C1E-4113-B1C4-3D2D298E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723E-F6AC-42C5-9637-E15ECA38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782F-1C51-4756-BAE8-AB8EA93C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6BB8-B4A2-4D82-B800-E713FBFF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F59B-3263-4600-B2AD-ED67230E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5AFA-AD77-44F6-8344-D175F728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C9F2-26F6-4325-82EF-FDC1481E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7C71-9171-488A-B380-292F2276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14E6-CFEE-40F0-BC3A-D5F24DBE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E64E-B873-4E90-8F44-07126F68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F824-6E03-42C0-A23A-7EED6727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3A77-7C6F-45C0-9DCE-7EE8F1FA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240D-2E4D-42F9-B8AC-F317EA6A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4F00-98DD-40F0-8A70-E70EFE6A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292E-8215-4066-8E38-77E985E2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5FC7-2E37-4D7B-9974-AD8D71B2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A9CA-E7FD-420D-8F56-119253AF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7377-9A5C-4661-AE3D-94D0432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A0EC-31AD-4A23-A2DA-6785BA2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F320-2666-40E7-84DD-918AD29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209C-E267-4D3B-9C11-7A068860F0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A74A-1632-4728-B89C-8279F7A61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dfdef6"/>
                </a:solidFill>
                <a:latin typeface="comic"/>
              </a:rPr>
              <a:t>SPECIFIC OBJECTIVE</a:t>
            </a:r>
            <a:r>
              <a:rPr b="0" lang="es-CO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7040" y="2731680"/>
            <a:ext cx="7929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omic Sans MS"/>
              </a:rPr>
              <a:t>Do the Glass Recycl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omic Sans MS"/>
              </a:rPr>
              <a:t>Create a Jclic G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omic Sans MS"/>
              </a:rPr>
              <a:t>Make a Mental Map for checking the four abilities in foreing Language process (comprehension, speaking, writing, reading)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, which will be the final product to evaluate students of Grade 10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2:41:40Z</dcterms:created>
  <dc:creator>SPAWN</dc:creator>
  <dc:description/>
  <dc:language>en-US</dc:language>
  <cp:lastModifiedBy>FABIAN</cp:lastModifiedBy>
  <dcterms:modified xsi:type="dcterms:W3CDTF">2007-08-31T06:08:08Z</dcterms:modified>
  <cp:revision>8</cp:revision>
  <dc:subject/>
  <dc:title>OBJETIVOS ESPECÍFICOS. </dc:title>
</cp:coreProperties>
</file>