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FC0-F76F-4CDB-80B1-05325DD0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858-0D4A-4CDB-8D18-DBFB2C80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63F-1AF7-481C-87EA-25B107E9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480-019B-47EB-AA75-80FE779C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34FF-BDD1-4DB4-BC86-26FAEA8F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B365-7EE1-4A64-9829-3420984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7865-74F2-4FDA-AD0E-48E4862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A862-7E9E-49C0-85B6-4039D3AA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B7D9-3A35-4878-9EFD-5C413CEA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1940-C9BC-495B-8459-F31B4E8D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3C64-8806-4812-A06A-1A2ED141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60B-C558-47F3-A982-0E50A237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778B-CC90-4F15-AAAF-C74D56E9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C2D8-26B3-4652-B5A5-05E815FE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00C3-E733-4E4F-864C-F5B7BFA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ED18-CD77-40F7-B339-DC53221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79A2-DBF8-4A86-8E04-892F0E51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AA0-B409-45CA-A6AD-828ADCF6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7D1-F804-441F-A2B5-D43368F9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96A-97E9-4092-BD71-E3D120A0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259-3EA2-4EBE-9DEE-81107C2A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324-2478-40A1-B368-8B6C2D66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CFF-3049-43E8-84B6-86A549B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3DE-0C5F-428C-9FD3-32831B0B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4515-A9D8-4E97-97C9-CEA16471C3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9249-0895-4238-B5DD-0F6AC6134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b7e7ff"/>
                </a:solidFill>
                <a:latin typeface="comic"/>
              </a:rPr>
              <a:t>General objective</a:t>
            </a:r>
            <a:r>
              <a:rPr b="0" lang="es-CO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Knowing and using as working tool the mental map through FREE MIND Progr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2:33:14Z</dcterms:created>
  <dc:creator>SPAWN</dc:creator>
  <dc:description/>
  <dc:language>en-US</dc:language>
  <cp:lastModifiedBy>FABIAN</cp:lastModifiedBy>
  <dcterms:modified xsi:type="dcterms:W3CDTF">2007-08-31T03:37:50Z</dcterms:modified>
  <cp:revision>4</cp:revision>
  <dc:subject/>
  <dc:title>OBJETIVO GENERAL. </dc:title>
</cp:coreProperties>
</file>