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B6A-0D83-4531-973A-2E5D2476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5CC-2E10-4BB3-9DCB-2FE8BE1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E95-25C2-4966-83D3-B44ACBC8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485-8C8A-4760-B28F-E54560CB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F2DC-8EF7-4AC4-BCDA-7E2B2429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D630-8767-40F7-A7C0-CB9E0AC7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FD3B7-CFD0-4F5E-B22A-BDFF3E49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A24E6-85B5-4CD2-B16A-EC7E763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74970-6883-48E4-B9FB-B9C0524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FDCB8-BAF8-4DF0-BBC9-4F3F0E9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762A3-2620-4677-8243-8F89626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13E-6B0A-4F3D-A7F4-150073E8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72016-8B95-4316-82D7-BEE3E72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39F96-C602-41A6-ABD8-14E3B6A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142FC-E4AB-439E-8700-C199FB2F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2F285-0288-47C0-9204-D76E9D2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21E7-AD90-4065-8C4C-2F17E949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6E5-8802-43C8-A3E3-37CC9D5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409-A122-41D5-A03F-89DD0EAC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9B2-DEDF-40F2-BA5E-799E898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E2B-8164-4F37-9348-7C67940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B43-3BA6-41F3-86CD-1FB0C07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F04-4AF2-4CC0-BCB4-D2C0306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0F0-0C51-4BFE-851E-CE1FEC9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8E3-31C2-48D4-AFCC-A3746EBA8C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732-A47F-42D5-B802-B28B3EBAC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e3e3ff"/>
                </a:solidFill>
                <a:latin typeface="comic"/>
              </a:rPr>
              <a:t>Physical resources.</a:t>
            </a:r>
            <a:r>
              <a:rPr b="0" lang="es-CO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ur Lady of Fátima High  School – Popayán – POLICIA N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English Laboratory - Our Lady of Fátima High  School - Popayán - POLICIA N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hysics Laboratory - Our Lady of Fátima High  School - Popayán - POLICI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thers: Parents and Bordering Community of Our Lady of Fátima High  School - Popayán - POLICI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University of Cau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Regional Autonomous Corporation of Cauca (CRC-Corporacion Autonomam Regional del Cauc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57:52Z</dcterms:created>
  <dc:creator>SPAWN</dc:creator>
  <dc:description/>
  <dc:language>en-US</dc:language>
  <cp:lastModifiedBy>FABIAN</cp:lastModifiedBy>
  <dcterms:modified xsi:type="dcterms:W3CDTF">2007-08-31T05:07:57Z</dcterms:modified>
  <cp:revision>4</cp:revision>
  <dc:subject/>
  <dc:title>RECURSOS FÍSICOS. </dc:title>
</cp:coreProperties>
</file>