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F86-7403-4333-815F-0C5D9128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91A-BE19-4D5D-B43A-A465E2D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39A-6255-4F8A-9E3D-F0DDE4FE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D0A-019C-454E-A6FD-55A93C87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C2A4-A576-4885-B129-33AF66D4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6B76-F486-4DA7-9D06-AAEBABE5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ABEA-CD88-48BD-A221-F0F6A96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970C-EDE1-4D30-9C7D-3DF9EDE8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ECF8-AB6B-49F5-A492-63B2CAE1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5739-B47A-4FA2-AC3F-82BDC284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C0F9-F5EB-4B83-B76C-FB2F349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B06-82BD-47A9-9CFD-ABBD9A81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CDCD-9068-44D2-AE97-0000DE80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6B30-BE60-4AA7-9DFC-F86F7FC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A06D-627E-433F-8CAE-719CCFC3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61B5-CE37-4380-937B-543FCCE9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55B9-893D-4263-8ED8-6FB2785D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B20-2B6B-4960-9F13-CC156749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32E-4604-47B8-912A-3E14FC36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726-6356-4C2E-9E59-8116AEA9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EF5-3E42-495A-B35D-594D8A05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A42-417C-413D-BE32-0577050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826-0C02-4C31-A801-48AC063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C36-BE1D-434F-861C-C2498D98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E3FD01-A2D0-415F-8288-A40E3E1ABCBE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4B7CAC-6C87-417A-B9B7-BCF6F02C14B0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comic"/>
              </a:rPr>
              <a:t>HUMAN RESOURCES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Electronic Enginner Ulises Hernández UNIVERSITY OF CAUC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Teacher Claudia Castr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NACIONAL POLIC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OUR LADY OF FÁTIMA HIGH SCHO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OPAY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Teacher  Carmen Gisela Concha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NACIONAL POLIC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OUR LADY OF FÁTIMA HIGH SCHO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OPAY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REGIONAL AUTONOMOUS CPRPORATION (CRC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OTHERS:</a:t>
            </a: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ARENTS AND BORDERING COMUNITY OF_OUR LADY OF FÁTIMA HIGH SCHO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OPAY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___________________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AWN</dc:creator>
  <dc:description/>
  <dc:language>en-US</dc:language>
  <cp:lastModifiedBy>FABIAN</cp:lastModifiedBy>
  <cp:revision>0</cp:revision>
  <dc:subject/>
  <dc:title>RECURSOS HUMANOS. </dc:title>
</cp:coreProperties>
</file>