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E43-173F-4627-9193-E0BCDC15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645-46CC-4B9D-946E-F60873C1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61D6-E8D1-4FF8-9C4A-11C8CBF0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5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1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5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1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7E9-711B-47DB-86BD-A95BD8A2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B708-6EF8-457A-8D68-713355D4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4E0B-C9CA-40B4-8E82-30C034A1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94B5-53AC-4AC5-9333-D7E294DA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7AF7-6C66-42AA-9335-50FC62EA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7F6B-5759-4AFA-8A37-EC166CF6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-32040"/>
            <a:ext cx="7542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8E49-2332-4B0B-A0AF-3D6C2641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0C30-F3EB-40C7-8F87-9DED24A3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2ABD-D373-482E-9570-F998217F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D72F-6A35-460D-B213-A37A92DE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BA5B-1615-480B-AEA3-10E30D35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2EE8-0700-45A5-878F-0B2825B2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8AE2-B239-4ABA-9046-DCC00C05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5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1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5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1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635D-85B1-4928-9AE5-922086C2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2F9-750C-49D9-9843-08396392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7B1-34CA-4C50-B75D-B064A203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213-843B-49A1-94E7-987C31F5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-32040"/>
            <a:ext cx="7542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A497-3D86-43C1-B9E4-0549C387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4B0-7440-4FEB-B85E-B2F9715C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DABE-C200-4AFC-904B-3ADD8EA8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850E-71BC-4BC3-ABB6-D3CE3669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949646-D877-4A9D-B9F2-7A6822FB7A3E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323720"/>
            <a:ext cx="7085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3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D7DEEB1-3E83-4E99-9B9D-11E35ED75B2A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eaeaea"/>
                </a:solidFill>
                <a:latin typeface="comic"/>
              </a:rPr>
              <a:t>SPEAKING.</a:t>
            </a: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tudents of Grade 10th will talk about their projects titled “Helping the planet” and focused on Glass Recycling, so they can practice oral expressio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PAWN</dc:creator>
  <dc:description/>
  <dc:language>en-US</dc:language>
  <cp:lastModifiedBy>FABIAN</cp:lastModifiedBy>
  <cp:revision>0</cp:revision>
  <dc:subject/>
  <dc:title>SPEAKING. </dc:title>
</cp:coreProperties>
</file>