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C75-89C0-4328-98CA-72A6671B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349-262B-4003-A17A-30D859E3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E01-DC42-42C9-AC8B-7D8CB96E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8D6-2F7E-4AF6-8316-DF9B3FA2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F0FE-6C2D-4651-BE3A-A61A78C1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4138-2900-426A-9CB1-10AAB690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2ABF-79CF-4BCB-A675-D2B074AF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A49D-7148-493C-B249-92BD4275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2120-3553-45D8-9474-D57E49F9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1963-FFC8-4AC7-ACB8-80967FF9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26A4-BC17-492F-A3A9-C4462186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F4E-0062-4EC0-AF25-01818D4A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A886-954F-4793-8C39-FAD8A96F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7CEB-F7B6-4A95-A2CF-507BA510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7F13-552D-43F7-AAAD-D8DCF1B1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6E20-5DFA-403F-9347-05CF776D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C6C8-7450-4D80-A228-D82D34ED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28E-8617-4FF5-A5F8-9554D605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F36-9EE3-47F3-89C9-DFA66485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AE09-2953-4DC0-B641-3F45A28C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2DF-1B9D-4C6E-91D7-09164046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BC6-0C60-4CEF-B84C-8203A4AB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824-A583-4CCF-AC63-917A4EAB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5D00-667A-46F0-A9F9-D6AA0E4E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8C56-BBAD-4549-9266-C9434BA8754F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ED91-0299-41AC-B33A-78EB244BE70B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comic"/>
              </a:rPr>
              <a:t>TRANSLATION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eaeaea"/>
                </a:solidFill>
                <a:latin typeface="Comic Sans MS"/>
              </a:rPr>
              <a:t>Students of Grade 10th must attend an oral evaluation for checking their improvement in translation usin the text about G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3:32:42Z</dcterms:created>
  <dc:creator>SPAWN</dc:creator>
  <dc:description/>
  <dc:language>en-US</dc:language>
  <cp:lastModifiedBy>FABIAN</cp:lastModifiedBy>
  <dcterms:modified xsi:type="dcterms:W3CDTF">2007-08-31T06:25:11Z</dcterms:modified>
  <cp:revision>3</cp:revision>
  <dc:subject/>
  <dc:title>TRANSLATION.</dc:title>
</cp:coreProperties>
</file>