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D2C3-E75F-4AA6-AAE2-106A90B2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1CA7-010D-453C-AEB3-5C7BEF39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4A04-D47B-4A83-9972-E105E323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7724-F5B8-4948-9A6A-9960F268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CAA1-0811-4B5F-9089-15D9387D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5049-518A-4C1F-95DB-5F236C49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433C-F988-4E8F-8A96-8EE0D54D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746A-312C-42D0-A79B-B5DC286B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F1A6-137D-4C98-947B-A83E0F35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1B30-FA3C-4D56-92A2-189E46A8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46B4-8DC7-4E78-8F53-F9436A6D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2E06-549F-4F4B-A3AF-F26483CA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AEC5-309D-4D4A-A704-CDEA7FDD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4153-286B-4350-8106-7F9F5DF0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D6E7-C7BA-48DE-817F-1202A838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8258-8E03-4FD9-B84B-8925430B2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890A-C586-4C59-9BFA-04ECF12E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2B83-D0A8-4F3C-B363-C5CE3956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BC6C-7010-40C7-9B24-6E29BF14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3F6A-0A8F-46C5-8BFF-465D325F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6CB5-920A-4FC0-9437-2F935520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78C9-6162-4DBB-AAC1-D328557A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7A4F-BB10-4C49-96F7-48539767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D770-E4D8-4992-A138-D1C9636F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7120" cy="827280"/>
              <a:chOff x="5600880" y="5897520"/>
              <a:chExt cx="125712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32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616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48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264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356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afe1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87A532-93D7-45DF-945E-66EF36A5003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7120" cy="827280"/>
              <a:chOff x="5600880" y="5897520"/>
              <a:chExt cx="125712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32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616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48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264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356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67B23FB-295D-4BAB-BF1F-0EC5A418B9E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afe1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7240" y="-12096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Comic Sans MS"/>
              </a:rPr>
              <a:t>VITRAL GUIDE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79280" y="1260360"/>
            <a:ext cx="7019640" cy="55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hen you are going to make a Vitral, you have to get the following materi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aintbrus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Vitraceta(special liqu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Vitraplomo(specialbordering liqu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atex Glo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leaner and washable tow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riplex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ecycled Bottles or G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6984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ccecff"/>
                </a:solidFill>
                <a:latin typeface="Comic Sans MS"/>
              </a:rPr>
              <a:t>STEPS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492280"/>
            <a:ext cx="817092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1.    Involve the bottle inside a rug, then crush it  with a hammer or a stone, remember is necessary that glasses have different size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278080" y="385920"/>
            <a:ext cx="45720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82520" y="2658960"/>
            <a:ext cx="876312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2.   Desing a picture on the triplex    board, and  throw glue covering all the drawing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457360" y="720720"/>
            <a:ext cx="4202280" cy="53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20720" y="2555640"/>
            <a:ext cx="7559640" cy="19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16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3. Put on the gloves and sellect the  sizes of glasses for decorating the picture according to your desing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15960" y="11462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440000" y="1370880"/>
            <a:ext cx="63007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4.   After a time, when glasses are glued to the board, you can picture them with different tones of VITRACET, and  use VITRAPLOM to border the draw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15960" y="11462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ABIAN</dc:creator>
  <dc:description/>
  <dc:language>en-US</dc:language>
  <cp:lastModifiedBy>FABIAN</cp:lastModifiedBy>
  <cp:revision>0</cp:revision>
  <dc:subject/>
  <dc:title>VITRAL GUIDE </dc:title>
</cp:coreProperties>
</file>