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D608-1AFA-4E23-A8B1-0329AA28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EE13-2791-418C-A2DB-01E11639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BC11-B9A1-4413-A8FA-654D328A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E6E6-92F7-460E-8A8B-5F94C7BB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2B44-97DC-47B1-B85A-0E84DB7C7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2D8C-BA88-4F69-AF68-A796EE32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6A09-67FC-4A64-87D9-DFF209BB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8AF0-D2A2-4DFC-AA64-E3486CDE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6AA8-4041-4E8B-98ED-07E34612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A010-136B-4036-88A3-7A4FB121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9D6E-5B2D-4BC3-8071-D06A9A24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67A3-8B62-43D1-A6B5-4608DC37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7A3B-D434-42CB-9365-24E20A59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248B-BB76-401A-AB05-EC8AE964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65EC-C73A-4E8C-A129-D523F475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6D31-68E9-4829-A83C-FB9210F8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04DF-EB3E-4D82-9906-C5C7E6F4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7BDF-48B3-4CD2-9F3D-54DA4A77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3456-5216-4194-868D-9305E722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5F17-23DD-4D20-A64E-E1063C6C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AC07-DA03-4DF3-8E4B-845793E0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D12C-4A2C-4108-83A3-D1534CAD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7BEC-D051-4C91-AFA1-0A27936D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DFB7-CBD0-4F40-AF10-AF1C259E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A190-B935-449B-9865-63860D6BE8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A83B-E0C9-4D63-9413-49DF71C5E4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ARTÍCULOS DE OFICINA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DISCIPLINARIEDAD CON LA MOD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BJETIV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2420640"/>
            <a:ext cx="77724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CIONAR EL PROYECTO EN CIENCIA TECNOLOGÍA Y SOCIEDAD CON LA MODALIDAD COMERCIAL DE LA INSTITU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OLOGÍ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75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LA ASIGNATURA DE EMPRENDIMIENTO LOS ESTUDIANTES APRENDEN A CONFORMAR UNA MICRO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IBEN CAPACITACIÓN DEL SENA EN ELABORACIÓN DE PRODUCTOS Y ARTESANÍAS CON  RESIDUOS SÓL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PEQUEÑOS GRUPOS ESCOGEN UN ARTÍCULO DE OFICINA COMO: CARPETAS, PISAPAPELES, ARCHIVADORES, LIBRETAS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TERIA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MATERIAL UTILIZADO ES CARTÓN Y PAPEL RECICLADO QUE SE DECORA CON GRAN DELICADEZA PARA DARLE UN EXCELENTE ACABADO Y PRESENT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PAPEL RECICLADO SE UTILIZA PARA ELABORAR LIBRETAS Y TARJETAS DE PRESENT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3:47:37Z</dcterms:created>
  <dc:creator>Chicos</dc:creator>
  <dc:description/>
  <dc:language>en-US</dc:language>
  <cp:lastModifiedBy>Chicos</cp:lastModifiedBy>
  <dcterms:modified xsi:type="dcterms:W3CDTF">2007-05-30T14:02:13Z</dcterms:modified>
  <cp:revision>2</cp:revision>
  <dc:subject/>
  <dc:title>ARTÍCULOS DE OFICINA</dc:title>
</cp:coreProperties>
</file>