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BC5-DC8A-4D12-B90A-B081A6BC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2AE-6DC1-4868-8FD0-0F0BD19C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FD7-56AC-4F45-A103-3188AB10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4CB-C2DB-44A4-BCD3-AD78AF97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D52E-4D72-4592-B5F8-F3073738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E889-F3F1-4AFF-B3BF-B09BD488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C5F5-5FE7-4CF5-8955-46883289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FCCA-B0FE-4B79-BD41-313B35CD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39FE-9F5D-486D-81FF-78C4F4DB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7277-F2BB-47B4-A3F7-881BC4D1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1338-B23E-479F-82AC-2E82465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22A-24F1-46BF-B3E4-D922DAAF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8163-F7C0-4144-A520-EDD8DB3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3B8B-2809-43FC-98F7-74717AB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424F-BE21-406D-A991-770CC7A0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5A07-17E4-4B32-B68C-EF5832E9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D022-A479-4B98-AAAE-10EBC4BE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BA0-FFB2-49C9-9D48-F14AB0FF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57B-A072-484F-9E4A-DDA9527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FED-1949-439F-B87F-052F9C87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8B1-F632-4670-BC07-6F7950BB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944-8A02-40DF-8AAB-D3483ED6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B1F-DF2B-480C-80C7-7CBB4B39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B3D-E8E5-4CE1-9F3F-8315B71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6FC4-B42D-458A-8820-3184ECA82EA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20F9-99D5-4F0E-A2A1-BFCE470523A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696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CUADROS CON VIDRIO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ABOR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CONSIGUE UNA TABLA DE TRIPLEX DE 30 CM X 40 CM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REALIZA EL DISEÑO CON LAPIZ SOBRE LA TABL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LUEGO CON VITRAPLOMO SE DELINEAN  LOS BORD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RELLENAN LOS ESPACIOS CON VIDRIO TRITURADO DE DIFERENTE GROSOR DE ACUERDO AL DIBUJO Y SE PEGA CON COLB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PINTA CON VITRASETA DE DIFERENTES COLOR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MANDA ENMARCA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3:06:42Z</dcterms:created>
  <dc:creator>Chicos</dc:creator>
  <dc:description/>
  <dc:language>en-US</dc:language>
  <cp:lastModifiedBy>Chicos</cp:lastModifiedBy>
  <dcterms:modified xsi:type="dcterms:W3CDTF">2007-05-29T13:13:19Z</dcterms:modified>
  <cp:revision>1</cp:revision>
  <dc:subject/>
  <dc:title>CUADROS CON VIDRIO</dc:title>
</cp:coreProperties>
</file>