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945-0842-4F41-B3C8-B510AB88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E7A-F23B-4F93-9DE9-784917FE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210-87EA-4D59-93DD-76930AC7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60A-32DA-43B9-AA14-A3FE2B8D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135D-D694-4713-8E1A-D76E9AEF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E632-437A-4008-9FEF-3A7AD2DC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E401-DE63-48C2-97DA-7934894B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5F29-983E-427D-BF37-8CDB1047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0562-DFC4-4A7D-AAA9-F45B04B8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8D0F-51A8-40A4-AD9B-17878D12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5651-395F-4DC1-B4F1-E37D6151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5B6-E5E4-4E4B-BFA7-36F8E10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1D67-0368-4237-836E-C6BC3FE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EBD-146A-4845-9064-CD9A89D1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2EC2-13F9-44E0-8A5F-AA0BDD81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CCFC-A24F-48EB-BAA0-F7CB72B7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E1A0-0D50-48AE-A089-52EAB35A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2A4-1C66-4B2C-80A3-7E0AE4EB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D71-07DC-46F7-B1CF-043FD083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B17-0DD9-493A-A224-B9E1F500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745-A34F-4E5D-9A5B-C378C131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75D-6443-4DAC-8092-5B9D7FA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3CF-391C-4763-83F8-C16EE51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1A6-855E-4254-8528-C9863F6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6179-86DA-45C7-9166-1C68BC17775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6CFC-A417-4850-9FF7-92ABA5E3B29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6966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CUADROS EN PAPEL RECICLADO Y TARJETERÍA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ABOR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RECOGEMOS EL PAPEL QUE DESECHAN LOS ESTUDIANTES EN LOS SALON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SE PONE EN REMOJ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LICUAMOS  EN PEQUEÑAS CANTIDAD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COMBINAMOS  CON TINTES NATURALES, O RESIDUOS DE FRUTAS O VERDURAS PARA DARLE COLOR Y TEXTUR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SE COLOCA EN UN LIENZO O CEDAZO DEL TAMAÑO DESEADO Y SE PONE A SEC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LUEGO SE ESCOGE LA TEMÁTICA QUE EN NUESTRO CASO FUE : LA SITUACIÓN AMBIENTAL DE LA COMUNIDAD EDUCATIVA Y DE LA  CIU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PINTAMOS CON VINILOS Y SE MANDA ENMARCA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3:13:49Z</dcterms:created>
  <dc:creator>Chicos</dc:creator>
  <dc:description/>
  <dc:language>en-US</dc:language>
  <cp:lastModifiedBy>Chicos</cp:lastModifiedBy>
  <dcterms:modified xsi:type="dcterms:W3CDTF">2007-05-29T13:24:01Z</dcterms:modified>
  <cp:revision>2</cp:revision>
  <dc:subject/>
  <dc:title>CUADROS EN PAPEL RECICLADO Y TARJETERÍA</dc:title>
</cp:coreProperties>
</file>