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572B-EEA3-47E8-B45A-E1E68322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A8D5-5C1F-431E-9191-1525C449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674-AEA9-4E68-8816-49B96328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CCB-9CDD-46E5-8A0B-80ACBEBB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F8F4-9CDF-480B-8E9D-D0269538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F567-DBA1-4F6C-9050-39002894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BB8E-8C85-41D7-9FC3-14695FD3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F47C-944C-4B21-A129-AB50E143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F5B8-01F4-4DE9-8F40-93FDAB5B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48DC-CEC5-4919-9A68-C30521D4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FC49-D7C2-4752-A1AF-8FD64F74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5A1-6D17-4019-92A8-AEFD1448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B945-7ACB-4F56-B3E6-E4254CB6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9C98-4617-4BCA-9537-B062FC1C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70FC-2142-4881-81A3-69DE2737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DAB9-38C7-454D-9D17-CDC29967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92E5-174C-407B-A355-474231C0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2334-6536-473C-BAD5-27799084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0FB6-A510-4871-9EBA-52ECBD31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5744-73C5-405F-B194-F4C4BC79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38DD-FA82-4FD9-B7C3-33B1AD65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8E6-4208-4A33-9C47-40DA5E19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F7B-C69F-437F-B94A-89391992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5D17-CE6B-4AB6-90CC-620DBE82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3D0C-9476-4F4F-A443-5C939CC342F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8BC0-B2B4-456E-9114-3C56FBC8DF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FUERZA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A DEL MOVI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PRINCIPIOS  O LEYE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OBSERVAS EL  MOVIMIENTO DE UN CUERPO SE CUMPLEN TRES LEY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Y DE INER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Y DE LA FUER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Y DE ACCION Y REAC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S LEYES FUERON ENUNCIADAS EN 1687 POR EL FÍSICO Y MATEMÁTICO INGLÉS ISAAC NEWTON.  AVERIGUA SU BIOGRAF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EY DE INERC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940360" y="3068640"/>
            <a:ext cx="1830600" cy="1149480"/>
          </a:xfrm>
          <a:prstGeom prst="rect">
            <a:avLst/>
          </a:prstGeom>
          <a:ln w="0">
            <a:noFill/>
          </a:ln>
        </p:spPr>
      </p:pic>
      <p:sp>
        <p:nvSpPr>
          <p:cNvPr id="159" name="Tree"/>
          <p:cNvSpPr/>
          <p:nvPr/>
        </p:nvSpPr>
        <p:spPr>
          <a:xfrm>
            <a:off x="971640" y="242100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56610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S CUERPOS TIENDEN A PERMANECER EN SU ESTADO DE REPOSO O MOVIMIENTO UNIFORME A NO SER QUE UNA FUERZA EXTERNA  LO MODIFI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85185E-006 L -0.46944 -0.02153 L -0.33559 -0.02153 L -0.46788 -0.02361 L -0.33073 -0.01296 L -0.44843 -0.02153 L -0.31614 -0.01713 L -0.46302 -0.01713 L -0.36128 -0.01505 L -0.46944 -0.02153 E">
                                      <p:cBhvr>
                                        <p:cTn id="9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EY DE LA FUERZ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635280" y="2852640"/>
            <a:ext cx="1830600" cy="1149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651640" y="2708280"/>
            <a:ext cx="2016000" cy="1225440"/>
          </a:xfrm>
          <a:prstGeom prst="leftArrow">
            <a:avLst>
              <a:gd name="adj1" fmla="val 50000"/>
              <a:gd name="adj2" fmla="val 41128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43640" y="306864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72360" y="3141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95640" y="4149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4076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EL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5445000"/>
            <a:ext cx="7993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 FUERZA QUE ACTÚA SOBRE UN CUERPO ES IGUAL AL PRODUCTO DE LA MASA POR LA ACELERACIÓN QUE LE IMPR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= m.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39375 1.85185E-006 E">
                                      <p:cBhvr>
                                        <p:cTn id="15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EY DE ACCIÓN Y REAC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580000" y="2781360"/>
            <a:ext cx="1830600" cy="1149120"/>
          </a:xfrm>
          <a:prstGeom prst="rect">
            <a:avLst/>
          </a:prstGeom>
          <a:ln w="0">
            <a:noFill/>
          </a:ln>
        </p:spPr>
      </p:pic>
      <p:sp>
        <p:nvSpPr>
          <p:cNvPr id="173" name="Tree"/>
          <p:cNvSpPr/>
          <p:nvPr/>
        </p:nvSpPr>
        <p:spPr>
          <a:xfrm>
            <a:off x="2124000" y="227664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2565360"/>
            <a:ext cx="1152360" cy="57636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64000" y="2565360"/>
            <a:ext cx="1008000" cy="50328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53737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EMPRE QUE UN CUERPO EJERCE UNA FUERZA DE ACCIÓN SOBRE OTRO, ESTE REACCIONA CON UNA FUERZA IGUAL Y OPUESTA APLICADA SOBRE EL PRIM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48148E-006 C -0.04895 0.00069 -0.09774 0.00232 -0.14669 0.00232 C -0.28055 0.00232 -0.24635 0.00579 -0.20798 -0.01065 C -0.19999 -0.00995 -0.19166 -0.01111 -0.18385 -0.00856 C -0.18194 -0.00787 -0.1868 -0.00486 -0.18871 -0.00417 C -0.19235 -0.00278 -0.19617 -0.00255 -0.19999 -0.00208 C -0.20538 -0.00116 -0.21076 -0.00069 -0.21614 1.48148E-006 C -0.26423 0.02384 -0.21371 0.01227 -0.1644 0.01088 C -0.18281 -0.00579 -0.20798 0.0125 -0.22742 -0.00417 C -0.22847 -0.00625 -0.22899 -0.00903 -0.23055 -0.01065 C -0.23194 -0.01204 -0.23715 -0.01273 -0.23541 -0.01273 C -0.20954 -0.01273 -0.18385 -0.01134 -0.15798 -0.01065 C -0.1868 -0.02292 -0.21944 -0.02083 -0.24826 -0.00856 C -0.21631 0.00509 -0.18923 0.00116 -0.15312 0.00232 C -0.14097 0.05116 -0.20781 0.02315 -0.22569 0.02361 C -0.21892 0.02315 -0.18506 0.02107 -0.17569 0.01944 C -0.16735 0.01806 -0.16041 0.01088 -0.15156 0.01088 E">
                                      <p:cBhvr>
                                        <p:cTn id="21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XPERIMENT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TE EN PEQUEÑOS GRUPOS Y EN LA PRÓXIMA CLASE TRAE UNA EXPERIENCIA PRÁCTICA PARA DEMOSTRAR CADA UNA DE LAS TRES LEYES DEL MOVIMI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!SERÁ DIVERTID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SULT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CUÁLES SON LAS UNIDADES DE FUERZ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CUÁL ES LA DIFERENCIA ENTRE MASA Y PES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CUÁL ES EL INSTRUMENTO PARA MEDIR MAS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PESARÍAS LO MISMO EN LA LUN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QUÉ FUERZAS ACTÚAN EN UN CUERPO EN REPOS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QUE ACELERACIÓN ADQUIERE UN CUERPO DE 50 KG CUANDO SE LE APLICA UNA FUERZA DE 10 NEWT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CUÁNTO PESA UN HOMBRE QUE TIENE UNA MASA DE 100 KG. EN UN LUGAR DONDE LA ACELERACIÓN DE LA GRAVEDAD  ES LA SEXTA PARTE DE LA DE LA TIERR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ALIDA DE CAMP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RANTE LA VISITA AL RELLENO SANITARIO AVERIGUA QUE INSTRUMENTO UTILIZAN PARA MEDIR LA MASA DE RESIDUOS SÓLIDOS QUE SE PRODUCEN DIARIAMENTE EN LA CIU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 CANTIDAD SE PRODUCE EN UM MES Y CALCULA CUANTO SE PRODUCIRÍA EN DOCE MES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ÁNTOS AÑOS DE VIDA ÚTIL LE QUEDAN AL RELLENO SANITARI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É AREA OCUPA EL RELLENO SANITARI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ÁL ES EL VOLUMEN DE RESIDUOS QUE SE PRODUCEN EN LA CIUDAD DURANTE UN M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É MAQUINARIA SE UTILIZA EN EL TRANSPORTE Y TRATAMIENTO DE LOS RESIDUOS SÓLIDO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7:47:11Z</dcterms:created>
  <dc:creator>Chicos</dc:creator>
  <dc:description/>
  <dc:language>en-US</dc:language>
  <cp:lastModifiedBy>Chicos</cp:lastModifiedBy>
  <dcterms:modified xsi:type="dcterms:W3CDTF">2007-05-29T09:21:01Z</dcterms:modified>
  <cp:revision>8</cp:revision>
  <dc:subject/>
  <dc:title>FUERZAS</dc:title>
</cp:coreProperties>
</file>