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571-0934-4BBB-A24A-EC9807F2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3DF-E4BD-4742-97AD-88BFEC3D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71C-4945-44B5-B890-E89A7AAC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128-7932-40D1-9BAA-47903BE5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13A0-B16B-4E73-BF86-7E138772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5E26-09FA-410A-83D8-03CF2CA0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2F71-72B2-4F8B-806D-D9183A7F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C088-9A20-4EDB-BC4F-5D27744D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684A-91E9-4F0C-906D-36BE9647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4577-E3BD-45C8-B1B9-884CB6C5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5126-41C2-4A35-8774-B9FB75BF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4E6-4662-45EC-B490-0DD8AAC7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59BA-92DE-4482-8DFB-5FC368E6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BD59-A2DD-4A5E-A5D1-9DD40240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2CA3-CD2F-422F-A273-7ED12109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86B5-92FF-4732-B5FC-EA2A2AEA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3CC6-16BC-47BA-ACE0-FFEFF00C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035-1462-4048-9E60-B5C318F7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DAB-8D24-438C-8236-C4667CCF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90A-1696-4015-A4FD-E15D117D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A49-8227-430A-891D-AAF10EAA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A02-0FD1-47A9-A00B-6DAF884F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420-7F56-4FF3-8077-EA5FE1B8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D9E-8EEC-454D-A2CB-57724715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B44A-91E0-4166-B36C-70A51244D75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0160-DF5E-401D-AD3C-36147D74687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262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UESTRA ARTÍSTICA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568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MUESTRA TUS HABILIDADES Y DESTREZ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XPOSICIÓN DE CUADR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UNA ESTUPENDA ACTIVIDAD PARA REALIZAR CON LOS ESTUDIANTES ES LA REALIZACIÓN DE CUADROS DONDE SE DESARROLLA LA CREATIVIDAD Y LAS DESTREZAS MANUAL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METODOLOGÍ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EN PEQUEÑOS GRUPOS SE ELABORA UN DISEÑO PREVIO DEL PAISAJE O MOTIVO TENIENDO EN CUENTA LA TEMÁTICA VISTA 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SE ELIGE EL MATERIAL QUE PUEDE SER: TELA REUTILIZADA, VIDRIO, PAPEL RECICLADO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O SEMILL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XPOSICIÓN DE CUADR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 ELIGEN LAS PINTURAS A UTILIZAR QUE PUEDEN SER: VINILOS O VITRASETA PARA EL VIDRI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A VEZ TERMINADO SE ENMARCA Y SIRVE DE DECORACIÓN Y SENSIBILIZACIÓN PARA LA COMUNIDAD EDUCATIV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2:35:21Z</dcterms:created>
  <dc:creator>Chicos</dc:creator>
  <dc:description/>
  <dc:language>en-US</dc:language>
  <cp:lastModifiedBy>Chicos</cp:lastModifiedBy>
  <dcterms:modified xsi:type="dcterms:W3CDTF">2007-05-29T12:51:47Z</dcterms:modified>
  <cp:revision>2</cp:revision>
  <dc:subject/>
  <dc:title>MUESTRA ARTÍSTICA</dc:title>
</cp:coreProperties>
</file>