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CEF-A3FE-461A-94F0-9FCDAE28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E0D-68BB-4697-A80F-075CBC82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3E6-9549-4968-B9F8-EDB1D467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C57-19A2-4B81-BDEC-32772D73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4F8A-7666-4D20-B1AE-3E3406F6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5821-AD82-4E1E-9E0D-B91B3A06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4A58-8E4D-471E-8489-C8246DD2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E650-3A96-4DF1-9769-95E823E1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A181-E3E9-4B02-B459-9F369B7A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B2F2-1400-4170-9449-2FA6E4B6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6D3F-CD39-4AC8-B683-0276228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C7A-7EAA-4ACE-AD31-AD4AE22A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920F-4D61-4261-95FB-21EE834F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B1F7-1958-4269-8EA7-E41CB624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4842-8B28-440E-A7FC-250E9F37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5EDC-6889-4B03-8437-780E274E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A59E-2C80-43D5-A221-2BA0A0D0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A9F-FCCF-4637-96EC-DEB86F2D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6FA-E76F-4DF6-8A1A-504104E1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BCA-0CEF-4766-A876-A5337238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FDA-7498-4170-AF93-BEC10033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7E6-C60E-42FE-9A13-CDC30CAA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F89-8B4C-4B10-A4FE-53BE8955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039-7E74-4BF9-80B6-EC4BD27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507244-576F-44B1-AA89-01CF916A34F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99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2C9057-84E1-4938-A427-D258C931A8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724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0f030"/>
                </a:solidFill>
                <a:latin typeface="Garamond"/>
              </a:rPr>
              <a:t>PLAN  MANEJO ADECUADO DE RESIDUOS SÓLID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Garamond"/>
              </a:rPr>
              <a:t>“</a:t>
            </a:r>
            <a:r>
              <a:rPr b="1" lang="en-GB" sz="2800" spc="-1" strike="noStrike">
                <a:solidFill>
                  <a:srgbClr val="00ff99"/>
                </a:solidFill>
                <a:latin typeface="Garamond"/>
              </a:rPr>
              <a:t>TODOS JUNTOS POR UN MEJOR MAÑAN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Garamond"/>
              </a:rPr>
              <a:t>GRADO DÉCIM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SITUACIÓN AMBIENT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211640" y="1914480"/>
            <a:ext cx="3371760" cy="396252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55640" y="2540160"/>
            <a:ext cx="273672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ff66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ff99"/>
                </a:solidFill>
                <a:latin typeface="Garamond"/>
              </a:rPr>
              <a:t>El inadecuado manejo de residuos sólidos es la problemática más relevante dentro y fuera de la Institución Educa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0BJETIV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ff99"/>
                </a:solidFill>
                <a:latin typeface="Garamond"/>
              </a:rPr>
              <a:t>Reducir  la producción de residuos sólidos no biodegradables como el papel  metalizado y el plástico que son materiales perjudiciales para el ambi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ff99"/>
                </a:solidFill>
                <a:latin typeface="Garamond"/>
              </a:rPr>
              <a:t>Reutilizar materiales biodegradables como el papel, el cartón,  en la realización de artesanías o manualidad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ff99"/>
                </a:solidFill>
                <a:latin typeface="Garamond"/>
              </a:rPr>
              <a:t>Reciclar el papel  desechado por estudiantes, docentes y personal administrativ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648320" y="2333520"/>
            <a:ext cx="3668760" cy="302904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ACTIVIDAD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669680"/>
            <a:ext cx="352404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99"/>
                </a:solidFill>
                <a:latin typeface="Garamond"/>
              </a:rPr>
              <a:t>Capacitación de estudiantes, docentes y padres de familia con el SEN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99"/>
                </a:solidFill>
                <a:latin typeface="Garamond"/>
              </a:rPr>
              <a:t>Conformación del Comité Ambiental del Colegio Nuestra Señora de Fátim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88000" y="1413000"/>
            <a:ext cx="3343320" cy="223200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313080" cy="230508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ACTIVIDAD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Elaboración de una propuesta para el manejo adecuado de los residuos sólid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ampaña de concienciación de la comunidad educativ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onsecución y ubicación de canecas en salones y pati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Jornada artística ecológic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Recolección de papel en cada sal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81760" y="1413000"/>
            <a:ext cx="3019320" cy="226512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148360" y="4221000"/>
            <a:ext cx="3168720" cy="223236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ACTIVIDAD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5240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ampaña de separación de residuos sólid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harlas y conferenci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Bodega de reciclaje y Tienda de residuos sóli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ontactos con AREMARP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Salida ecológica con el Comité ambiental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60880" y="1557360"/>
            <a:ext cx="2965680" cy="223200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03640" y="4025880"/>
            <a:ext cx="3240360" cy="249876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40696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0f030"/>
                </a:solidFill>
                <a:latin typeface="Garamond"/>
              </a:rPr>
              <a:t>GRACI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cos</dc:creator>
  <dc:description/>
  <dc:language>en-US</dc:language>
  <cp:lastModifiedBy>Chicos</cp:lastModifiedBy>
  <cp:revision>0</cp:revision>
  <dc:subject/>
  <dc:title>Diapositiva 1</dc:title>
</cp:coreProperties>
</file>