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827-A26F-445E-A6DE-35216100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9FD-2DF1-4DCC-9EB5-4891CD2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BD1-5189-4448-8C2B-17DFEAAC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760-9938-49DE-983C-4C56C025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423-E176-4DAD-96C5-4606054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730-45AE-480E-BB8F-760D1323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33A-3E41-44E1-A4E7-AA996294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B9A-3925-426B-A13D-C269C772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82C-2350-4134-871D-2432C46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0D2-B206-4DFB-AA46-0AC2873C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042-F351-49D3-8D8F-FE0CBA8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931-7C15-4202-A1BD-CB46808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63DDE-80C5-45CB-8CF8-D07EF035EF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227664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empus Sans ITC"/>
              </a:rPr>
              <a:t>AHORA OBSERVA TU COLEGIO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solidFill>
            <a:srgbClr val="006811"/>
          </a:solidFill>
          <a:ln w="9360">
            <a:solidFill>
              <a:srgbClr val="006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0920" y="692280"/>
            <a:ext cx="4321080" cy="3528720"/>
            <a:chOff x="250920" y="692280"/>
            <a:chExt cx="4321080" cy="3528720"/>
          </a:xfrm>
        </p:grpSpPr>
        <p:pic>
          <p:nvPicPr>
            <p:cNvPr id="45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250920" y="692280"/>
              <a:ext cx="4321080" cy="3528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250920" y="692280"/>
              <a:ext cx="432108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788000" y="2563920"/>
            <a:ext cx="4176720" cy="35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4941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empus Sans ITC"/>
              </a:rPr>
              <a:t>¿Te gusta lo que 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4320" y="60012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empus Sans ITC"/>
              </a:rPr>
              <a:t>¿Depositas la basura en la cane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95280" y="2421000"/>
            <a:ext cx="3745080" cy="3816360"/>
            <a:chOff x="395280" y="2421000"/>
            <a:chExt cx="3745080" cy="3816360"/>
          </a:xfrm>
        </p:grpSpPr>
        <p:pic>
          <p:nvPicPr>
            <p:cNvPr id="51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395280" y="2421000"/>
              <a:ext cx="3745080" cy="38163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2" name=""/>
            <p:cNvSpPr/>
            <p:nvPr/>
          </p:nvSpPr>
          <p:spPr>
            <a:xfrm>
              <a:off x="395280" y="2421000"/>
              <a:ext cx="374508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527280" cy="403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9280" y="5493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Tempus Sans ITC"/>
              </a:rPr>
              <a:t>Donde haces tus necesidades, ¿allí co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5013360"/>
            <a:ext cx="417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empus Sans ITC"/>
              </a:rPr>
              <a:t>Y donde co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empus Sans ITC"/>
              </a:rPr>
              <a:t>¿ parece un basur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800360" y="2494080"/>
            <a:ext cx="5906880" cy="3985920"/>
            <a:chOff x="1800360" y="2494080"/>
            <a:chExt cx="5906880" cy="398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800360" y="2494080"/>
              <a:ext cx="5906880" cy="3985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>
              <a:off x="1800360" y="2494080"/>
              <a:ext cx="5906880" cy="39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4360" y="4762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9933"/>
                </a:solidFill>
                <a:latin typeface="Tempus Sans ITC"/>
              </a:rPr>
              <a:t>Esfuérzate por depositar las basuras en la caneca correspond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84464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empus Sans ITC"/>
              </a:rPr>
              <a:t>REALIZA UNA MUESTRA FOTOGRÁFICA DE TU COLEGIO ANTES , DURANTE Y DESPUES DEL DESCAN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