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360" y="-8652240"/>
            <a:ext cx="360" cy="186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DDB5-08C3-45D3-B4AF-59DDE038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1200-29C0-4CC0-965D-AC3D34E6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C25D-4A76-474D-8BFA-D7FD02FA8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1D74-B25D-4772-88AA-C7F1B7A0D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CF6C-7364-4D32-9EBE-9D94D84A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DBFB-90FF-40F5-B574-3506A4B0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4345-3009-43CC-9AB9-DE1BEE4C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9B57-2302-4231-9A84-BA0BCA56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031D-84F4-4E70-847D-18312668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DA24-96F5-4268-AD6C-2BC7B5E3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1347-730F-4BA8-B893-9489A367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1EAE-C047-47F2-8C19-DD18643E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30d2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43661-0A66-42C4-862A-51FEA462E0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30d2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16000" y="2013120"/>
            <a:ext cx="691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ff00"/>
                </a:solidFill>
                <a:latin typeface="Tempus Sans ITC"/>
              </a:rPr>
              <a:t>¿CONOCES LOS RESIDUOS SÓLIDOS QUE PRODUCE TU COLEGI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30d2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87280" y="26028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9933"/>
                </a:solidFill>
                <a:latin typeface="Tempus Sans ITC"/>
              </a:rPr>
              <a:t>Si los clasificas encontrará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19640" y="1440000"/>
            <a:ext cx="2916000" cy="2282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9640" y="3959280"/>
            <a:ext cx="3240360" cy="2441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940360" y="3959280"/>
            <a:ext cx="2697120" cy="251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0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30d2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rot="21240000">
            <a:off x="255600" y="357336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empus Sans ITC"/>
              </a:rPr>
              <a:t>Y otro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35280" y="1125360"/>
            <a:ext cx="4537080" cy="496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0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30d2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55720" cy="2011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470720" y="0"/>
            <a:ext cx="1673280" cy="2065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458120" y="4802040"/>
            <a:ext cx="1685880" cy="2055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0" y="4849920"/>
            <a:ext cx="1636560" cy="2008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195640" y="900000"/>
            <a:ext cx="496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empus Sans ITC"/>
              </a:rPr>
              <a:t>¿Qué depositarías en cada una  de las siguientes canec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3640" y="4140360"/>
            <a:ext cx="327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empus Sans ITC"/>
              </a:rPr>
              <a:t>Consulta la presentación sobre residuos sól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981000"/>
            <a:ext cx="5745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28000" y="1125360"/>
            <a:ext cx="64764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5877000"/>
            <a:ext cx="647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85080" y="5950080"/>
            <a:ext cx="719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30d2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332000" y="2492280"/>
            <a:ext cx="6697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ff00"/>
                </a:solidFill>
                <a:latin typeface="Tempus Sans ITC"/>
              </a:rPr>
              <a:t>¿CONOCES LA CANTIDAD DE RESIDUOS SÓLIDOS QUE PRODUCE EL COLEG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dur="indefinite" fill="hold">
                      <p:stCondLst>
                        <p:cond delay="0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30d2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00000" y="1125360"/>
            <a:ext cx="187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00ff00"/>
                </a:solidFill>
                <a:latin typeface="Tempus Sans ITC"/>
              </a:rPr>
              <a:t>En una semana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306864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ffff00"/>
                </a:solidFill>
                <a:latin typeface="Tempus Sans ITC"/>
              </a:rPr>
              <a:t>¡ En un me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37372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9933"/>
                </a:solidFill>
                <a:latin typeface="Tempus Sans ITC"/>
              </a:rPr>
              <a:t>¡¡ En un año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71640" y="260280"/>
            <a:ext cx="3602160" cy="2162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924360" y="2637000"/>
            <a:ext cx="4464000" cy="369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dur="indefinite" fill="hold">
                      <p:stCondLst>
                        <p:cond delay="0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30d2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42920" y="1484280"/>
            <a:ext cx="66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558972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0ff00"/>
                </a:solidFill>
                <a:latin typeface="Tempus Sans ITC"/>
              </a:rPr>
              <a:t>REDUC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60720" y="251136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empus Sans ITC"/>
              </a:rPr>
              <a:t>REUTILIZ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4360" y="573408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33"/>
                </a:solidFill>
                <a:latin typeface="Tempus Sans ITC"/>
              </a:rPr>
              <a:t>RECIC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835280" y="3357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059280" y="476280"/>
            <a:ext cx="3095280" cy="1944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39640" y="3213000"/>
            <a:ext cx="2880000" cy="2232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5148360" y="3357720"/>
            <a:ext cx="3311280" cy="21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dur="indefinite" fill="hold">
                      <p:stCondLst>
                        <p:cond delay="0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 fill="hold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30d2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148360" y="4221000"/>
            <a:ext cx="23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1197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ff00"/>
                </a:solidFill>
                <a:latin typeface="Tempus Sans ITC"/>
              </a:rPr>
              <a:t>Son una buena opción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87280" y="263700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9933"/>
                </a:solidFill>
                <a:latin typeface="Tempus Sans ITC"/>
              </a:rPr>
              <a:t>¿Cómo podríamos hacerl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6920" y="4071960"/>
            <a:ext cx="727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empus Sans ITC"/>
              </a:rPr>
              <a:t>Elabora en pequeños grupos un plan para reducir, reutilizar  y reciclar los residuos sólidos del cole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dur="indefinite" fill="hold">
                      <p:stCondLst>
                        <p:cond delay="0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icos</dc:creator>
  <dc:description/>
  <dc:language>en-US</dc:language>
  <cp:lastModifiedBy>Chicos</cp:lastModifiedBy>
  <cp:revision>0</cp:revision>
  <dc:subject/>
  <dc:title>Diapositiva 1</dc:title>
</cp:coreProperties>
</file>