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9058320"/>
            <a:ext cx="360" cy="195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045-16D7-4BF3-8B07-AF0033A2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20D-428C-4441-B7D4-6240AECC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011-C5A9-425E-AA82-09BF3A6B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0F8-4DD7-4E8A-8C34-F3945C1B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E09-615B-4333-ADEF-19351E87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F85-4D3A-40D4-A864-CA03EDBC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1BB-B562-41E3-9349-B56BACFE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620-A53C-462B-AAF4-380F8874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AC5-3350-4596-98F6-BC1A8105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534-882B-4762-BAEE-F4703EC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2A0-FAED-48FA-8373-7B4B229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3DC-B38C-463A-B367-F0CC68C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B70AF-FE9A-46F9-8507-B702436FFC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2421000"/>
            <a:ext cx="57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df828"/>
                </a:solidFill>
                <a:latin typeface="Tempus Sans ITC"/>
              </a:rPr>
              <a:t>AHORA … UNA MIRADA  A TU BAR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692280"/>
            <a:ext cx="3848040" cy="320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932360" y="3699000"/>
            <a:ext cx="3703680" cy="277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500720" y="9810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empus Sans ITC"/>
              </a:rPr>
              <a:t>Conoces tu bar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060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Tempus Sans ITC"/>
              </a:rPr>
              <a:t>Has mirado con atención el medio que te ro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180000">
            <a:off x="1185480" y="472572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df828"/>
                </a:solidFill>
                <a:latin typeface="Comic Sans MS"/>
              </a:rPr>
              <a:t>Te gusta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403280" y="1341360"/>
            <a:ext cx="6048360" cy="4052880"/>
            <a:chOff x="1403280" y="1341360"/>
            <a:chExt cx="6048360" cy="4052880"/>
          </a:xfrm>
        </p:grpSpPr>
        <p:pic>
          <p:nvPicPr>
            <p:cNvPr id="52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1403280" y="1341360"/>
              <a:ext cx="6048360" cy="4051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1403280" y="1341360"/>
              <a:ext cx="6048360" cy="40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971640" y="4762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df828"/>
                </a:solidFill>
                <a:latin typeface="Tempus Sans ITC"/>
              </a:rPr>
              <a:t>¿Cómo están las  cal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5589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empus Sans ITC"/>
              </a:rPr>
              <a:t>¿ Descuidadas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90320" y="2078280"/>
            <a:ext cx="5818680" cy="4544640"/>
            <a:chOff x="490320" y="2078280"/>
            <a:chExt cx="5818680" cy="4544640"/>
          </a:xfrm>
        </p:grpSpPr>
        <p:pic>
          <p:nvPicPr>
            <p:cNvPr id="57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84360" y="2349360"/>
              <a:ext cx="5430600" cy="399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8" name=""/>
            <p:cNvSpPr/>
            <p:nvPr/>
          </p:nvSpPr>
          <p:spPr>
            <a:xfrm rot="21240000">
              <a:off x="684360" y="2351160"/>
              <a:ext cx="5430600" cy="39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020000">
            <a:off x="2428920" y="1020240"/>
            <a:ext cx="683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empus Sans ITC"/>
              </a:rPr>
              <a:t>Puede que algunas estén 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Tempus Sans ITC"/>
              </a:rPr>
              <a:t>suci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0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rot="21420000">
            <a:off x="393840" y="7509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Tempus Sans ITC"/>
              </a:rPr>
              <a:t>¿Qué puedes hacer para cambiar esta situ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57440" y="2274840"/>
            <a:ext cx="597708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9228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empus Sans ITC"/>
              </a:rPr>
              <a:t>Realiza una visita por tu barrio                   acompañado de un docente  y averigua su situación ambiental, toma registros de video o fotográficos y realiza un informe                       en pequeñ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08360" y="2637000"/>
            <a:ext cx="504036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0000" y="2900520"/>
            <a:ext cx="4176720" cy="34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2360" y="2160720"/>
            <a:ext cx="3888000" cy="31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041480" y="24300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empus Sans ITC"/>
              </a:rPr>
              <a:t>Realiza entrevistas a las personas que habitan tu barrio y pregúntales qué opinan de la situación ambiental y si están dispuestos a colabor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537372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empus Sans ITC"/>
              </a:rPr>
              <a:t>Investiga cuáles son las Instituciones más importantes de tu barrio y sus fun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cos</dc:creator>
  <dc:description/>
  <dc:language>en-US</dc:language>
  <cp:lastModifiedBy>Chicos</cp:lastModifiedBy>
  <cp:revision>0</cp:revision>
  <dc:subject/>
  <dc:title>Diapositiva 1</dc:title>
</cp:coreProperties>
</file>