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162-BDB5-44B7-BC12-B1427DE5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478-8F14-4D23-9B34-B43C4E42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136E-0F3E-464F-8CAE-D7AAFA20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9A0-EA53-461C-A72F-E8078453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90F0-F151-43D4-969F-3AA7168C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1EC5-83C9-48CC-9DA6-54345906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BE2F-6F22-467A-92EC-FE525B69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F731-B43A-423C-9BEF-E6C9A8E5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DA0A-E72D-4BB8-9979-FFE71263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4FC2-6560-4079-9D64-3ED272C2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62D2-F5FC-4CC4-A139-6AD3AC06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8B1-1FD4-4933-AAEB-A0E0FDDD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2857-7D13-41EF-8CEC-8E0021D0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1509-0793-442F-871F-4F8ABFFF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3FE1-AC2D-4A73-A7D5-8389BFCD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7700-E901-493E-9535-E13A3920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CDF0-E509-475C-A850-355811D1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C535-5C4F-4E96-81D4-B3F3DA71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D1C-2615-4365-B4FE-970484C8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CB8-8A4A-4CCB-A3AB-B374024E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8555-9B8B-4C69-B389-D23CE3C3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2E6-43F4-4472-AB8D-15C25C2E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92F-FF37-4E95-916B-FE6983DE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A3D-EE45-44D8-A66B-927E68E3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E696-7318-4942-9199-10AD6490E8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42A4-91D5-47C6-B363-E707F214BC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258920" y="54936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 VISTAZO A TU HOG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184720" cy="3095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4360" y="765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 CÓMO MANEJAS LOS RESIDUOS SÓLID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03280" y="573408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TIENEN QUE OBLIGARTE A DEPOSITARLOS EN LA CANEC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848720" cy="4535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116000" y="5229360"/>
            <a:ext cx="61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… LOS SEPARAS EN LA FUENTE PARA BENEFICIAR A OTROS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EÑA UN MUNDO MEJ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CRIBE UN CUENTO, UNA HISTORIETA, O UNA DRAMATIZACIÓN  EN PEQUEÑOS GRUPOS SOBR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UNA MEJOR ACTITUD HACIA LOS RESIDUOS SÓLIDOS PUEDE MEJORAR EL  MUN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64000" y="1844640"/>
            <a:ext cx="3311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04:24:29Z</dcterms:created>
  <dc:creator>Chicos</dc:creator>
  <dc:description/>
  <dc:language>en-US</dc:language>
  <cp:lastModifiedBy>Chicos</cp:lastModifiedBy>
  <dcterms:modified xsi:type="dcterms:W3CDTF">2007-05-31T07:29:05Z</dcterms:modified>
  <cp:revision>2</cp:revision>
  <dc:subject/>
  <dc:title>Diapositiva 1</dc:title>
</cp:coreProperties>
</file>