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539288" cy="7343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C216-A5B9-418B-868D-556FA699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7360" y="293760"/>
            <a:ext cx="858708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7360" y="1714680"/>
            <a:ext cx="858708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360" y="4246200"/>
            <a:ext cx="858708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9A34-E709-4C1A-ABDB-6769AFDC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7360" y="293760"/>
            <a:ext cx="858708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7360" y="1714680"/>
            <a:ext cx="41904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7640" y="1714680"/>
            <a:ext cx="41904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7360" y="4246200"/>
            <a:ext cx="41904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7640" y="4246200"/>
            <a:ext cx="41904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81C8-3F68-4436-8809-3505EDE5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7360" y="293760"/>
            <a:ext cx="858708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7360" y="1714680"/>
            <a:ext cx="27648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0760" y="1714680"/>
            <a:ext cx="27648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4160" y="1714680"/>
            <a:ext cx="27648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7360" y="4246200"/>
            <a:ext cx="27648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0760" y="4246200"/>
            <a:ext cx="27648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4160" y="4246200"/>
            <a:ext cx="27648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D052-3403-44E9-973C-B7E70866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7360" y="293760"/>
            <a:ext cx="858708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7360" y="1714680"/>
            <a:ext cx="8587080" cy="48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AAC6-3FA1-4009-9491-EB838022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7360" y="293760"/>
            <a:ext cx="858708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7360" y="1714680"/>
            <a:ext cx="8587080" cy="4846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0FEC-69F6-4F1A-85CF-892606F2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7360" y="293760"/>
            <a:ext cx="858708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7360" y="1714680"/>
            <a:ext cx="4190400" cy="4846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7640" y="1714680"/>
            <a:ext cx="4190400" cy="4846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ADEE-EF92-4434-B6B3-102E6777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7360" y="293760"/>
            <a:ext cx="858708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AD10-81FB-4A13-9367-D42D4787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7360" y="293760"/>
            <a:ext cx="858708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5A32-CC47-49CC-8CB2-0435917E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7360" y="293760"/>
            <a:ext cx="858708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7360" y="1714680"/>
            <a:ext cx="41904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7640" y="1714680"/>
            <a:ext cx="4190400" cy="4846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7360" y="4246200"/>
            <a:ext cx="41904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D09-8C1C-492A-8AC1-949568CC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7360" y="293760"/>
            <a:ext cx="858708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7360" y="1714680"/>
            <a:ext cx="4190400" cy="4846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7640" y="1714680"/>
            <a:ext cx="41904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7640" y="4246200"/>
            <a:ext cx="41904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F62D-D64E-4E31-AE75-7E2C8031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7360" y="293760"/>
            <a:ext cx="858708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7360" y="1714680"/>
            <a:ext cx="41904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7640" y="1714680"/>
            <a:ext cx="41904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360" y="4246200"/>
            <a:ext cx="858708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9950-C50B-4477-9D29-6915C646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7360" y="293760"/>
            <a:ext cx="858708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7360" y="1714680"/>
            <a:ext cx="8587080" cy="4846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01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89120" indent="-2412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2415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71880" indent="-2415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71880" indent="-2415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7360" y="6689520"/>
            <a:ext cx="2225880" cy="509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9080" y="6689520"/>
            <a:ext cx="3022560" cy="509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7120" y="6689520"/>
            <a:ext cx="2227320" cy="509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DA95A78-27F5-4BF9-B4F6-022C80A4EBE7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63640" y="2824200"/>
            <a:ext cx="766296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SIDUOS SOLID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25280" y="360360"/>
            <a:ext cx="396108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4600" spc="-1" strike="noStrike">
                <a:solidFill>
                  <a:srgbClr val="000000"/>
                </a:solidFill>
                <a:latin typeface="Arial"/>
              </a:rPr>
              <a:t>PAP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2360" y="1584360"/>
            <a:ext cx="6408720" cy="36036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s-CO" sz="1900" spc="-1" strike="noStrike">
                <a:solidFill>
                  <a:srgbClr val="000000"/>
                </a:solidFill>
                <a:latin typeface="Arial"/>
              </a:rPr>
              <a:t>QUE DEPOSITAMOS EN EL CONTENEDOR AZUL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6720" y="2160720"/>
            <a:ext cx="3529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SOLO PAPEL Y CART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3640" y="2664000"/>
            <a:ext cx="4176720" cy="36036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s-CO" sz="1900" spc="-1" strike="noStrike">
                <a:solidFill>
                  <a:srgbClr val="000000"/>
                </a:solidFill>
                <a:latin typeface="Arial"/>
              </a:rPr>
              <a:t>QUE CONSEGUIMOS CON EST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9640" y="3889440"/>
            <a:ext cx="792144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REDUCIR LA TALA DE ÁRBO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REDUCIR CONSUMO DE AGU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REDUCIR CONSUMO DE ENERG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REDUCIR EL VOLUMEN DE RESIDUOS Y POR LO TANTO SUS EFECTOS CONTAMINAN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78000" y="504720"/>
            <a:ext cx="5905440" cy="432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s-CO" sz="1900" spc="-1" strike="noStrike">
                <a:solidFill>
                  <a:srgbClr val="000000"/>
                </a:solidFill>
                <a:latin typeface="Arial"/>
              </a:rPr>
              <a:t>COMO PODEMOS HACER BUEN USO DE ELLO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6720" y="1368360"/>
            <a:ext cx="655164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DEPOSITANDO SOLO PAP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NO LO ARRUGUES NI LO DOBLES YA QUE ASI OCUPARA MENOS ESPAC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INTENTA QUITAR CLIPS Y GRAP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NO TIRES PAPEL ADHESIVO. HIGIÉNICO, MANCHADO CON GRASA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86000" y="4897440"/>
            <a:ext cx="64087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Para fabricar papel a partir de celulosa virgen se requiere madera, agua y energía, para obtener la misma cantidad con papel recuperado se  necesita 100 veces menos cantidad de agua una tercera parte de energía  y no se consume madera de los bosqu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30720" y="4176720"/>
            <a:ext cx="2449440" cy="5047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s-CO" sz="1900" spc="-1" strike="noStrike">
                <a:solidFill>
                  <a:srgbClr val="000000"/>
                </a:solidFill>
                <a:latin typeface="Arial"/>
              </a:rPr>
              <a:t>¿SABIAS QUE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14720" y="0"/>
            <a:ext cx="324000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4600" spc="-1" strike="noStrike">
                <a:solidFill>
                  <a:srgbClr val="000000"/>
                </a:solidFill>
                <a:latin typeface="Arial"/>
              </a:rPr>
              <a:t>VIDRIO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8000" y="1081080"/>
            <a:ext cx="6408720" cy="36036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s-CO" sz="1900" spc="-1" strike="noStrike">
                <a:solidFill>
                  <a:srgbClr val="000000"/>
                </a:solidFill>
                <a:latin typeface="Arial"/>
              </a:rPr>
              <a:t>QUE DEPOSITAMOS EN EL CONTENEDOR VERDE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" y="2232000"/>
            <a:ext cx="4176360" cy="36036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s-CO" sz="1900" spc="-1" strike="noStrike">
                <a:solidFill>
                  <a:srgbClr val="000000"/>
                </a:solidFill>
                <a:latin typeface="Arial"/>
              </a:rPr>
              <a:t>QUE CONSEGUIMOS CON EST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9280" y="1728720"/>
            <a:ext cx="5688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SOLO LOS BOTES Y BOTELLAS DE VIDRI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3097080"/>
            <a:ext cx="8209080" cy="28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MINIMIZAR EL CONSUMO DE RECURSOS NATURA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EVITAR IMPACTOS PROCEDENTES DE LA EXTRACCION DE SILI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REDUCIR CONSUMO DE AGU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REDUCIR CONSUMO DE ENERG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REDUCIR EL VOLUMEN DE RESIDUOS Y POR LO TANTO SUS EFECTOS CONTAMINAN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78000" y="504720"/>
            <a:ext cx="5905440" cy="4320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s-CO" sz="1900" spc="-1" strike="noStrike">
                <a:solidFill>
                  <a:srgbClr val="000000"/>
                </a:solidFill>
                <a:latin typeface="Arial"/>
              </a:rPr>
              <a:t>COMO PODEMOS HACER BUEN USO DE ELLO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30720" y="3529080"/>
            <a:ext cx="2449440" cy="50472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s-CO" sz="1900" spc="-1" strike="noStrike">
                <a:solidFill>
                  <a:srgbClr val="000000"/>
                </a:solidFill>
                <a:latin typeface="Arial"/>
              </a:rPr>
              <a:t>¿SABIAS QUE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8360" y="1368360"/>
            <a:ext cx="76323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DEPOSITA SOLO BOTELLAS, NO ES PARA CRISTALES DE VENTANAS, BOMBILLAS, VAJILLAS … PORQUE TIENEN UNA COMPOSICION DIFERENT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QUITA TAPAS Y TAPONES ANTES DE DEPOSITARLOS. SI ES POSIBLE LAVALOS ANTES DE RECICLARL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14360" y="4363920"/>
            <a:ext cx="684072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por cada 300 botellas de vidrio que recicla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ahorramos 1 toneladas de materia prima que no se tiene que extraer de las cantera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consumimos el 50% de agua men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reducimos un 20% la contaminación de la atmósfer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disminuimos 1 tonelada de basuras en verteder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6360" y="1152360"/>
            <a:ext cx="6408720" cy="360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s-CO" sz="1900" spc="-1" strike="noStrike">
                <a:solidFill>
                  <a:srgbClr val="000000"/>
                </a:solidFill>
                <a:latin typeface="Arial"/>
              </a:rPr>
              <a:t>QUE DEPOSITAMOS EN EL CONTENEDOR AMARILLO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6360" y="2448000"/>
            <a:ext cx="4176720" cy="360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s-CO" sz="1900" spc="-1" strike="noStrike">
                <a:solidFill>
                  <a:srgbClr val="000000"/>
                </a:solidFill>
                <a:latin typeface="Arial"/>
              </a:rPr>
              <a:t>QUE CONSEGUIMOS CON EST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38000" y="289080"/>
            <a:ext cx="4248360" cy="863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4600" spc="-1" strike="noStrike">
                <a:solidFill>
                  <a:srgbClr val="000000"/>
                </a:solidFill>
                <a:latin typeface="Arial"/>
              </a:rPr>
              <a:t>PLASTICO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6360" y="1728720"/>
            <a:ext cx="8280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ENVASES DE PLASTICO, LATAS, ENVOLTORIOS, PAPEL ALUMINIO, BOLSAS … TODO TIPO DE ENVASES PLASTICOS Y ENVOLTORI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6720" y="3529080"/>
            <a:ext cx="80643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MINIMIZAR EL CONSUMO DE RECURSOS NATURA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REDUCIR CONSUMO DE AGU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REDUCIR CONSUMO DE ENERG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REDUCIR EL VOLUMEN DE RESIDUOS Y POR LO TANTO SUS  EFECTOS CONTAMINAN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78000" y="504720"/>
            <a:ext cx="5905440" cy="43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s-CO" sz="1900" spc="-1" strike="noStrike">
                <a:solidFill>
                  <a:srgbClr val="000000"/>
                </a:solidFill>
                <a:latin typeface="Arial"/>
              </a:rPr>
              <a:t>COMO PODEMOS HACER BUEN USO DE ELLO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75080" y="3745080"/>
            <a:ext cx="2449440" cy="50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s-CO" sz="1900" spc="-1" strike="noStrike">
                <a:solidFill>
                  <a:srgbClr val="000000"/>
                </a:solidFill>
                <a:latin typeface="Arial"/>
              </a:rPr>
              <a:t>¿SABIAS QUE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82720" y="1368360"/>
            <a:ext cx="777564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REDUCE EL VOLUMEN DE LOS ENVASES QUE LO PERMITA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LOS ENVASES QUE NO SE PUEDAN PLEGAR QUITARLES EL TAP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ES BUENO QUE ESTEN LIMPIOS YA QUE LAS PERSONAS QUE LOS MANIPULAN SE LO AGRADECERIA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10000" y="4681440"/>
            <a:ext cx="49687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CERCA DEL 60% DE LA BASURA LO COMPONEN ENVASES Y  ENVOLTURAS  QUE ADEMAS SE LLEVAN ENTRE EL 10 Y 20% DEL DINERO DE NUESTRA COMPR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98720" y="720720"/>
            <a:ext cx="3024000" cy="2303640"/>
          </a:xfrm>
          <a:prstGeom prst="wedgeRoundRectCallout">
            <a:avLst>
              <a:gd name="adj1" fmla="val -5800"/>
              <a:gd name="adj2" fmla="val 6998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SI VES LA IMPORTANCIA DE MANEJAR LOS RESIDUOS SÓLIDOS  EN CASA Y EN TODO LUGA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02360" y="0"/>
            <a:ext cx="4338360" cy="3024360"/>
          </a:xfrm>
          <a:prstGeom prst="wedgeEllipseCallout">
            <a:avLst>
              <a:gd name="adj1" fmla="val -21351"/>
              <a:gd name="adj2" fmla="val 654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SI ES MUY IMPORTANTE POR ESOS TODOS EN CASA CLASIFIQUEMOS TODOS LOS RESIDUOS PARA TENER UN AMBIENTE SALUDAB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57640" y="3745080"/>
            <a:ext cx="2873520" cy="3101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33280" y="3816360"/>
            <a:ext cx="4249800" cy="32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7360" y="293760"/>
            <a:ext cx="8587080" cy="1224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600" spc="-1" strike="noStrike">
                <a:solidFill>
                  <a:srgbClr val="ff6600"/>
                </a:solidFill>
                <a:latin typeface="Arial"/>
              </a:rPr>
              <a:t>ACTIVIDA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77360" y="1714680"/>
            <a:ext cx="8587080" cy="4846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1800" indent="-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PIEZA  A SEPARAR LOS RESIDUOS SÓLIDOS EN TU AULA DE CLA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OCA UNA CAJA DE CARTÓN PINTADA DE  AZUL PARA RECICLAR PAP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OCA UNA CAJA DE CARTÓN PINTADA DE VERDE PARA REUTILIZAR EL VIDR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OS RESIDUOS SÓLIDOS SE UTILIZARÁN PARA ELABORAR CUADROS Y EXPONERLOS EN LA FERIA DE LA CREATIVID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14480" y="1127160"/>
            <a:ext cx="3079800" cy="2082600"/>
          </a:xfrm>
          <a:prstGeom prst="wedgeRoundRectCallout">
            <a:avLst>
              <a:gd name="adj1" fmla="val -40476"/>
              <a:gd name="adj2" fmla="val 7212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Abuela hoy aprendímos algo muy importante para la conservación de nuestro ambient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23000" y="1127160"/>
            <a:ext cx="2630520" cy="1465200"/>
          </a:xfrm>
          <a:prstGeom prst="wedgeEllipseCallout">
            <a:avLst>
              <a:gd name="adj1" fmla="val -25250"/>
              <a:gd name="adj2" fmla="val 102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OH que bien cuéntame lo que aprendist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562720" y="3816360"/>
            <a:ext cx="2873160" cy="310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6720" y="3889440"/>
            <a:ext cx="389412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62000" y="996480"/>
            <a:ext cx="4986360" cy="51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ctr">
            <a:sp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S RESIDUOS SÓLI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n la  fracción de los materiales de desecho que se producen tras la fabricación, transformación o utilización de bienes de consumo, que no se presentan en estado líquido o gaseo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46360" y="431640"/>
            <a:ext cx="4432320" cy="2546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Entonces podemos hablar de las </a:t>
            </a:r>
            <a:r>
              <a:rPr b="0" lang="es-CO" sz="3000" spc="-1" strike="noStrike">
                <a:solidFill>
                  <a:srgbClr val="000000"/>
                </a:solidFill>
                <a:latin typeface="Arial"/>
              </a:rPr>
              <a:t>3R</a:t>
            </a: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. Que son 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2500" spc="-1" strike="noStrike">
                <a:solidFill>
                  <a:srgbClr val="000000"/>
                </a:solidFill>
                <a:latin typeface="Arial"/>
              </a:rPr>
              <a:t>REDUC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2500" spc="-1" strike="noStrike">
                <a:solidFill>
                  <a:srgbClr val="000000"/>
                </a:solidFill>
                <a:latin typeface="Arial"/>
              </a:rPr>
              <a:t>REUTILIZ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2500" spc="-1" strike="noStrike">
                <a:solidFill>
                  <a:srgbClr val="000000"/>
                </a:solidFill>
                <a:latin typeface="Arial"/>
              </a:rPr>
              <a:t>RECIC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57280" y="3816360"/>
            <a:ext cx="389412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7360" y="293760"/>
            <a:ext cx="858708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4600" spc="-1" strike="noStrike">
                <a:solidFill>
                  <a:srgbClr val="000000"/>
                </a:solidFill>
                <a:latin typeface="Arial"/>
              </a:rPr>
              <a:t>COMO REDUCIR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7360" y="1714680"/>
            <a:ext cx="8587080" cy="4846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1800"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Arial"/>
              </a:rPr>
              <a:t>Piensa antes de comprar !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Arial"/>
              </a:rPr>
              <a:t>Adquiere aquellos productos que son necesarios para tu diario vivir  y no aquellos productos que se van a quedar sin utilizar ya que esos generan basura. esto también ayuda para que la economía de tu familia mejor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8880" y="665280"/>
            <a:ext cx="858672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4600" spc="-1" strike="noStrike">
                <a:solidFill>
                  <a:srgbClr val="000000"/>
                </a:solidFill>
                <a:latin typeface="Arial"/>
              </a:rPr>
              <a:t>COMO REUTILIZAR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8880" y="2361960"/>
            <a:ext cx="8586720" cy="3036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1800" indent="-361800" algn="ctr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Compra lo que puedas volver a utilizar. Evita envases desechables, son mejores los retornables. Arregla, repara y vuelve a utilizar. Si algo no te sirve, regálalo!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7360" y="293760"/>
            <a:ext cx="858708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4600" spc="-1" strike="noStrike">
                <a:solidFill>
                  <a:srgbClr val="000000"/>
                </a:solidFill>
                <a:latin typeface="Arial"/>
              </a:rPr>
              <a:t>COMO RECICLAR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7360" y="1714680"/>
            <a:ext cx="8587080" cy="4846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ra artículos hechos con materiales reciclados. Utiliza empaques de cartón y envases de vidrio, recuerda que puede reciclars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66720" y="431640"/>
            <a:ext cx="4608720" cy="2043360"/>
          </a:xfrm>
          <a:prstGeom prst="wedgeEllipseCallout">
            <a:avLst>
              <a:gd name="adj1" fmla="val 38013"/>
              <a:gd name="adj2" fmla="val 497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¿Pero como podemos aplicar esto en casa o cualquier otro lugar?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90720" y="2736720"/>
            <a:ext cx="2448000" cy="1584360"/>
          </a:xfrm>
          <a:prstGeom prst="wedgeRoundRectCallout">
            <a:avLst>
              <a:gd name="adj1" fmla="val -50194"/>
              <a:gd name="adj2" fmla="val 7334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Esa es una muy buena pregunta y para eso mira el siguiente esquema de reciclaj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850000" y="1224000"/>
            <a:ext cx="2873160" cy="3101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33280" y="4897440"/>
            <a:ext cx="3462480" cy="21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22360" y="720720"/>
            <a:ext cx="8586720" cy="5896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642960" indent="0" algn="ctr">
              <a:spcBef>
                <a:spcPts val="5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PARA PODER RECICLAR UTILIZAMOS UNA CANECA QUE PUEDE SER DE COLORES PARA IDENTIFICAR LO QUE SE VA A DEPOSIT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2960" indent="0" algn="ctr">
              <a:spcBef>
                <a:spcPts val="5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2960" indent="0" algn="ctr">
              <a:spcBef>
                <a:spcPts val="7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O" sz="3000" spc="-1" strike="noStrike">
                <a:solidFill>
                  <a:srgbClr val="000000"/>
                </a:solidFill>
                <a:latin typeface="Arial"/>
              </a:rPr>
              <a:t>EL PAPEL</a:t>
            </a:r>
            <a:br>
              <a:rPr sz="3000"/>
            </a:br>
            <a:r>
              <a:rPr b="0" lang="es-CO" sz="3000" spc="-1" strike="noStrike">
                <a:solidFill>
                  <a:srgbClr val="000000"/>
                </a:solidFill>
                <a:latin typeface="Arial"/>
              </a:rPr>
              <a:t>         (Azu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42960" indent="0" algn="ctr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42960" indent="0" algn="ctr">
              <a:spcBef>
                <a:spcPts val="7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CO" sz="3000" spc="-1" strike="noStrike">
                <a:solidFill>
                  <a:srgbClr val="000000"/>
                </a:solidFill>
                <a:latin typeface="Arial"/>
              </a:rPr>
              <a:t>EL VIDRIO</a:t>
            </a:r>
            <a:br>
              <a:rPr sz="3000"/>
            </a:br>
            <a:r>
              <a:rPr b="0" lang="es-CO" sz="3000" spc="-1" strike="noStrike">
                <a:solidFill>
                  <a:srgbClr val="000000"/>
                </a:solidFill>
                <a:latin typeface="Arial"/>
              </a:rPr>
              <a:t>           (Verd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42960" indent="0" algn="ctr">
              <a:spcBef>
                <a:spcPts val="7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42960" indent="0" algn="ctr">
              <a:spcBef>
                <a:spcPts val="7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CO" sz="3000" spc="-1" strike="noStrike">
                <a:solidFill>
                  <a:srgbClr val="000000"/>
                </a:solidFill>
                <a:latin typeface="Arial"/>
              </a:rPr>
              <a:t>EL PLASTICO O EMPA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42960" indent="0" algn="ctr">
              <a:spcBef>
                <a:spcPts val="7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CO" sz="3000" spc="-1" strike="noStrike">
                <a:solidFill>
                  <a:srgbClr val="000000"/>
                </a:solidFill>
                <a:latin typeface="Arial"/>
              </a:rPr>
              <a:t>(Amarill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4:56:57Z</dcterms:created>
  <dc:creator>USUARIO</dc:creator>
  <dc:description/>
  <dc:language>en-US</dc:language>
  <cp:lastModifiedBy>Chicos</cp:lastModifiedBy>
  <dcterms:modified xsi:type="dcterms:W3CDTF">2007-06-01T11:03:56Z</dcterms:modified>
  <cp:revision>29</cp:revision>
  <dc:subject/>
  <dc:title>Diapositiva 1</dc:title>
</cp:coreProperties>
</file>