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B0334-DFCB-400F-9D6C-6D76D5053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CB8CD-8D1A-4E45-92E9-5C72B9939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89A40-6DFB-466F-91BC-51D442A5E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3B733-1737-4386-BF8F-382D534F4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0D6EE-79CA-4646-A88E-E80F232CC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7A8DF-1493-45B7-8ACF-89B59E08B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CDF1B-DA7B-4F5B-BCE4-16B03AEE5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92D1D-F983-466E-BCEC-420E5E8C0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15DE1-E1C8-4A33-9654-5EEB72E91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045A6-75D9-4A65-ABF6-E301FE010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350F4-4AFE-4E16-B3E3-AF758E2A8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34554-108C-4B3F-BCC5-620B6F5D8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9F350-A2B2-47BC-B890-C647976CC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36F68-B0DD-413E-B054-9595DBF8E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8EB63-358A-4F5A-A686-1E50CEADB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92BE8-B3D2-4332-ADE3-7946BE4DC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85297-0A65-4279-A1D1-9379A5E9E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27A85-3315-43D7-BE06-1EFF19A59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05EEB-FB3A-4E0F-B173-8D2FDADEE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8A207-2709-462C-8902-CF2AACBF4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6249F-20E2-407C-8C0F-93ABB3D2D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BDED1-6297-4438-8662-BB13DB68B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31276-7815-4554-9901-35E7C0E8A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A97ED-F535-47EF-9E42-77DA27006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6B4A0-8FD8-4162-8147-AA23517B9B2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6E7E7-BDC5-435D-8D6C-A69AF294F17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317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EL VUELO DE LOS GANSOS</a:t>
            </a:r>
            <a:br>
              <a:rPr sz="4800"/>
            </a:b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ALLER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. Cinco características que  te llamen la atención  de la anterior presentació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. Sería lo mismo  en los gansos volar juntos que solo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Si los gansos no tuvieran esas actitudes podrían tener ese estilo de vida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. Qué cualidades crees necesitamos los humanos para  trabajo en equip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PLENARI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sentar en plenaria  conclusio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  abre espacio para la discusión y aclaración de concepto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locar en un lugar visible  del aula de clase  las conclusion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7:50Z</dcterms:created>
  <dc:creator>Usuario</dc:creator>
  <dc:description/>
  <dc:language>en-US</dc:language>
  <cp:lastModifiedBy>Chicos</cp:lastModifiedBy>
  <dcterms:modified xsi:type="dcterms:W3CDTF">2007-06-01T09:40:58Z</dcterms:modified>
  <cp:revision>6</cp:revision>
  <dc:subject/>
  <dc:title>EL VUELO DE LOS GANZOS </dc:title>
</cp:coreProperties>
</file>