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258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191BD-BCF8-41C3-8FE5-83A53DF6DD0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1F1-EA72-4CF2-98FC-D603CF4A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536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558-B262-4815-83A8-D1AE2BD7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224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FDE-A949-448F-85F2-D62DD2A5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176832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5080" y="176832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37400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5080" y="437400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B2F-5D3B-41C4-8CE3-C5DEE6F9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36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F7B-2C9B-424A-838E-E6F232C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D33-219D-439A-BCBD-C6B0A5F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4A8-7243-4321-B41B-4C73C5F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283-24E5-4846-A51E-D0F87DFB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95200"/>
            <a:ext cx="90536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278-F75D-49BD-BDFF-3D4BE04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517-FC60-4F38-97E5-7276566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224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75C-4E9A-4CFC-877C-A4C1AE5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536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E89-23D1-470D-AE34-16C0D93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e6e64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46000" indent="-28260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78000" indent="-2127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09640" indent="-1983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41640" indent="-2001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41640" indent="-2001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41640" indent="-2001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28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766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28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43C77-A625-4AB1-957D-0E2FEDEA2FD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9640" y="2479680"/>
            <a:ext cx="907272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ANEJO Y TRANSFORMACIÓN DE RESIDUOS SÓLIDO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OLEGIO NUESTRA SEÑORA DE FÁTIM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payán - Colombi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eptiembre de 2007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63640" y="755640"/>
            <a:ext cx="4248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81080"/>
            <a:ext cx="7704360" cy="71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ágen051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http://www.lagatadepaseo.com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buela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http://www.guia-latina.com/g 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Ninas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8.jpg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LACES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geocities.com/camp_pro_amb/Basura.htm www.vinculando.orgwww.tkfsa.com.co/publicaciones.php?id=2096&amp;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bichosverdes.org/Submarin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xataka.com/images/2007/08/Mju%20820%20front%20blue%20JPG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2.uca.es/serv/oficinaverde/overde2/media/gestion/papel.gif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guia-latina.com/graphics/Ninas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bichosverdes.org/Submarin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turcon.org/drupal/files/images/botellas-vidrio_1.gif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ads.gobierno.pr/secciones/avisos/imagenes/vertederos-foto-190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elbocarte.com/home/elbocar/public_html/www.google.es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conama.cl/portal/1089/articles-28396_recurso_1.gif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navarini.com/petf4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fundases.com/fotos/desechos-organicos02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dmsgbc.sld.cu/oinform/images/Botella%20de%20vidri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yoreciclo.cl/images/latas_alumini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insumospacheco.com.ar/caja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280" y="1008000"/>
            <a:ext cx="9063000" cy="6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lantahydro.com/catalog/images/latas_refresco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img.boonic.com/c/197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avidos.net/detalles/imagenes/camisetascruzroja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manueljodar.com/pua/Imagen/el%20papel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igooh.com.ar/ImgsNotas/5495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sernac.cl/sernacninos/buenconsumidor/img/reciclaje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nisu.blogia.com/upload/20060727185511-bolas-papel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canales.laverdad.es/especiales/vertederos/img/basura_grande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ocuslogo.com.ar/productos/fotos/DK138_calculadora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aguileraweb.com/images/fv033l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kristal97.com/imagenes/productos/vasos-02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html.rincondelvago.com/files/6/4/6/000126460.pn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la simetría del cristal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reciclado de periódicos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el color del plástico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recipiente diseñado por Simon Gat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2920" y="533160"/>
            <a:ext cx="9072360" cy="63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Claudia Castro Guerrrer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Gloria Muñoz Belalcázar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lba  Ausecha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Gisela Conch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Lourdes Valenci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sesores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lejandra María Narváez Camay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Isabel Cristina Alvarez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Miguel Corchuel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Ulises Hernández Pin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Nancy Cucuñame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Contribuciones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st. Gloria Patiño – Grado 10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st. Andrés Macias – Grado 10B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studiantes Grado 10 - Año 2007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4720" y="720720"/>
            <a:ext cx="907272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Trabajo realizado en el marco del proyecto “</a:t>
            </a:r>
            <a:r>
              <a:rPr b="1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Modelo de conformación de una red de aprendizaje de las ciencias con enfoque CTS + I en la educación media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” (Colciencias 1103-11-17051) desarrollado por las Universidades de Cauca y Pedagógica Nacional, cofinanciado por Colciencias y con el apoyo de la Corporación Autónoma Regional del Cauca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Para más información: http://www.iered.org/proyectos/redcts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56320" y="408636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97240" y="4086360"/>
            <a:ext cx="1717560" cy="126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94000" y="4068720"/>
            <a:ext cx="115884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559640" y="4176720"/>
            <a:ext cx="1108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628200"/>
            <a:ext cx="907272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DejaVu Sans"/>
              </a:rPr>
              <a:t>Copyright © 2007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DejaVu Sans"/>
              </a:rPr>
              <a:t>Se permite copiar, distribuir, presentar públicamente y hacer obras derivadas de los materiales elaborados por los autores, siempre y cuando se cite al autor original y las obras derivadas posean una licencia idéntica a esta, según lo establece la Licencia Pública Creative Commons Reconocimiento - Compartir Igual. La versión completa de esta licencia se encuentra en la dirección web: http://creativecommons.org/licenses/by-sa/2.5/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DejaVu Sans"/>
              </a:rPr>
              <a:t>Muchas de las imágenes utilizadas en este trabajo fueron descargadas de Internet, y a menos que se indique lo contrario en la página web correspondiente, todos los derechos están reservados. Su uso en este trabajo es ilustrativo y sólo con fines educativos, tal y como lo permite el artículo 32 de la Ley 23 de 1982 de Colombia http://www.derautor.gov.co/htm/legal/legislacion/leyes.htm y el artículo 15 de la Convención de Roma http://www.ompi.int/treaties/es/ip/rome/trtdocs_wo024.html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2920" y="628200"/>
            <a:ext cx="9109080" cy="62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-p6050037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44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39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 imágene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59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102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61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eminario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esar Cárden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legio_sucio1 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92000" y="466560"/>
            <a:ext cx="8496360" cy="70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 Cesar Cárden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54021375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neca1.jpg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 Cesar Cárden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mpaña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relleno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gradas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tio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año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Feris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36720" y="826920"/>
            <a:ext cx="6912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neca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otellas 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ágen040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agen044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16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62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arrio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16000" y="684360"/>
            <a:ext cx="100807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arrio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lle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lle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lase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lle3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cinos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glesia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ágen05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47640" y="539640"/>
            <a:ext cx="8496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611280"/>
            <a:ext cx="7704000" cy="64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1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2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3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4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5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6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7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8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ANEJO Y TRANSFORMACIÓN DE RESIDUOS SÓLIDOS  COLEGIO NUESTRA SE</dc:title>
</cp:coreProperties>
</file>