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93B-4159-4328-85D2-EC9548A2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E76-B828-4984-8664-12920D3D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7721-8C5F-4AFE-B69A-B66D52B1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A0A-D571-4439-8983-CC839B3C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C917-0E96-4A8A-B787-E7FB9895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1162-E8BA-440C-AD0A-05CDFEBB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6FFC-F0B7-4405-92B7-5452EC47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5BD5-9E5A-40E1-8493-122EEB6C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73B9-D4D2-45F6-9E2B-2AB9AABB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CEC5-9D40-454B-839C-536E8201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DDFE-379E-42C1-8B15-4560F7A6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BA9-047E-430F-94B0-97024B29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3A79-300C-4092-AFC8-7456F510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D776-B4CE-4D9F-8F49-5EFB7AE3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72AC-8CF1-4F90-8C5D-4CCAB4F2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AC7A-982F-49FD-BEB9-2C4D4666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1924-6859-43A9-B7FE-536F2A24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78A0-15CD-4445-A37D-29F62474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3B8-3F6F-4A14-B2ED-286DF5B7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A8E1-D2F0-4F42-BB6C-AEA4FD35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720-F7F0-4095-BB75-F1BC1AF4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1F7-6F66-4294-B685-8D955457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946-15FE-4FBC-B192-A47DA99C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930-0190-40B5-B934-4B84B783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DCB5-9857-4A78-BD0E-B1FD30347E2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53ED-DA8F-4E2F-B6CE-41026CE9057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.wikipedia.org/wiki/Observador" TargetMode="External"/><Relationship Id="rId2" Type="http://schemas.openxmlformats.org/officeDocument/2006/relationships/hyperlink" Target="http://es.wikipedia.org/wiki/N&#250;mero" TargetMode="External"/><Relationship Id="rId3" Type="http://schemas.openxmlformats.org/officeDocument/2006/relationships/hyperlink" Target="http://es.wikipedia.org/wiki/Unidad_de_medida" TargetMode="Externa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F&#237;sica_cl&#225;sica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s.wikipedia.org/wiki/Velocidad" TargetMode="External"/><Relationship Id="rId2" Type="http://schemas.openxmlformats.org/officeDocument/2006/relationships/hyperlink" Target="http://es.wikipedia.org/wiki/Fuerza" TargetMode="External"/><Relationship Id="rId3" Type="http://schemas.openxmlformats.org/officeDocument/2006/relationships/hyperlink" Target="http://es.wikipedia.org/wiki/Aceleraci&#243;n" TargetMode="External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Metro" TargetMode="External"/><Relationship Id="rId2" Type="http://schemas.openxmlformats.org/officeDocument/2006/relationships/hyperlink" Target="http://es.wikipedia.org/wiki/Segundo_%28unidad_de_tiempo%29" TargetMode="External"/><Relationship Id="rId3" Type="http://schemas.openxmlformats.org/officeDocument/2006/relationships/hyperlink" Target="http://es.wikipedia.org/wiki/Cesio" TargetMode="External"/><Relationship Id="rId4" Type="http://schemas.openxmlformats.org/officeDocument/2006/relationships/hyperlink" Target="http://es.wikipedia.org/wiki/Kilogramo" TargetMode="External"/><Relationship Id="rId5" Type="http://schemas.openxmlformats.org/officeDocument/2006/relationships/hyperlink" Target="http://es.wikipedia.org/wiki/Oficina_Internacional_de_Pesas_y_Medidas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Superficie" TargetMode="External"/><Relationship Id="rId2" Type="http://schemas.openxmlformats.org/officeDocument/2006/relationships/hyperlink" Target="http://es.wikipedia.org/wiki/Volumen_%28f&#237;sica%29" TargetMode="External"/><Relationship Id="rId3" Type="http://schemas.openxmlformats.org/officeDocument/2006/relationships/hyperlink" Target="http://es.wikipedia.org/wiki/Velocidad" TargetMode="External"/><Relationship Id="rId4" Type="http://schemas.openxmlformats.org/officeDocument/2006/relationships/hyperlink" Target="http://es.wikipedia.org/wiki/Aceleraci&#243;n" TargetMode="External"/><Relationship Id="rId5" Type="http://schemas.openxmlformats.org/officeDocument/2006/relationships/hyperlink" Target="http://es.wikipedia.org/wiki/Densidad" TargetMode="External"/><Relationship Id="rId6" Type="http://schemas.openxmlformats.org/officeDocument/2006/relationships/hyperlink" Target="http://es.wikipedia.org/wiki/Frecuencia_%28f&#237;sica%29" TargetMode="External"/><Relationship Id="rId7" Type="http://schemas.openxmlformats.org/officeDocument/2006/relationships/hyperlink" Target="http://es.wikipedia.org/wiki/Fuerza" TargetMode="External"/><Relationship Id="rId8" Type="http://schemas.openxmlformats.org/officeDocument/2006/relationships/hyperlink" Target="http://es.wikipedia.org/wiki/Presi&#243;n" TargetMode="External"/><Relationship Id="rId9" Type="http://schemas.openxmlformats.org/officeDocument/2006/relationships/hyperlink" Target="http://es.wikipedia.org/wiki/Trabajo_%28f&#237;sica%29" TargetMode="External"/><Relationship Id="rId10" Type="http://schemas.openxmlformats.org/officeDocument/2006/relationships/hyperlink" Target="http://es.wikipedia.org/wiki/Calor" TargetMode="External"/><Relationship Id="rId11" Type="http://schemas.openxmlformats.org/officeDocument/2006/relationships/hyperlink" Target="http://es.wikipedia.org/wiki/Potencia" TargetMode="External"/><Relationship Id="rId12" Type="http://schemas.openxmlformats.org/officeDocument/2006/relationships/hyperlink" Target="http://es.wikipedia.org/wiki/Carga_el&#233;ctrica" TargetMode="External"/><Relationship Id="rId13" Type="http://schemas.openxmlformats.org/officeDocument/2006/relationships/hyperlink" Target="http://es.wikipedia.org/wiki/Diferencia_de_potencial" TargetMode="External"/><Relationship Id="rId14" Type="http://schemas.openxmlformats.org/officeDocument/2006/relationships/image" Target="../media/image7.wmf"/><Relationship Id="rId15" Type="http://schemas.openxmlformats.org/officeDocument/2006/relationships/image" Target="../media/image8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s.wikipedia.org/wiki/Sistema_cegesimal" TargetMode="External"/><Relationship Id="rId2" Type="http://schemas.openxmlformats.org/officeDocument/2006/relationships/hyperlink" Target="http://es.wikipedia.org/wiki/Cent&#237;metro" TargetMode="External"/><Relationship Id="rId3" Type="http://schemas.openxmlformats.org/officeDocument/2006/relationships/hyperlink" Target="http://es.wikipedia.org/wiki/Gramo" TargetMode="External"/><Relationship Id="rId4" Type="http://schemas.openxmlformats.org/officeDocument/2006/relationships/hyperlink" Target="http://es.wikipedia.org/wiki/Segundo_%28unidad_de_tiempo%29" TargetMode="External"/><Relationship Id="rId5" Type="http://schemas.openxmlformats.org/officeDocument/2006/relationships/hyperlink" Target="http://es.wikipedia.org/wiki/Sistema_Ingl&#233;s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356000" y="1720800"/>
            <a:ext cx="345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cc"/>
                </a:solidFill>
                <a:latin typeface="Arial"/>
              </a:rPr>
              <a:t>es aquella propiedad de los sistemas físicos que puede ser medida o estimada por un </a:t>
            </a:r>
            <a:r>
              <a:rPr b="0" lang="es-CO" sz="24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observador</a:t>
            </a:r>
            <a:r>
              <a:rPr b="0" lang="es-CO" sz="2400" spc="-1" strike="noStrike">
                <a:solidFill>
                  <a:srgbClr val="0000cc"/>
                </a:solidFill>
                <a:latin typeface="Arial"/>
              </a:rPr>
              <a:t> o </a:t>
            </a:r>
            <a:r>
              <a:rPr b="0" lang="es-CO" sz="2400" spc="-1" strike="noStrike">
                <a:solidFill>
                  <a:srgbClr val="e4005c"/>
                </a:solidFill>
                <a:latin typeface="Arial"/>
              </a:rPr>
              <a:t>aparato de</a:t>
            </a:r>
            <a:r>
              <a:rPr b="0" lang="es-CO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CO" sz="2400" spc="-1" strike="noStrike">
                <a:solidFill>
                  <a:srgbClr val="e4005c"/>
                </a:solidFill>
                <a:latin typeface="Arial"/>
              </a:rPr>
              <a:t>medida</a:t>
            </a:r>
            <a:r>
              <a:rPr b="0" lang="es-CO" sz="2400" spc="-1" strike="noStrike">
                <a:solidFill>
                  <a:srgbClr val="0000cc"/>
                </a:solidFill>
                <a:latin typeface="Arial"/>
              </a:rPr>
              <a:t>,y se puede expresar mediante un </a:t>
            </a:r>
            <a:r>
              <a:rPr b="0" lang="es-CO" sz="24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número</a:t>
            </a:r>
            <a:r>
              <a:rPr b="0" lang="es-CO" sz="2400" spc="-1" strike="noStrike">
                <a:solidFill>
                  <a:srgbClr val="0000cc"/>
                </a:solidFill>
                <a:latin typeface="Arial"/>
              </a:rPr>
              <a:t> y una </a:t>
            </a:r>
            <a:r>
              <a:rPr b="0" lang="es-CO" sz="24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unidad de medida</a:t>
            </a:r>
            <a:r>
              <a:rPr b="0" lang="es-CO" sz="2400" spc="-1" strike="noStrike">
                <a:solidFill>
                  <a:srgbClr val="0000cc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042920" y="1628640"/>
            <a:ext cx="2884680" cy="5256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411280" y="6890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4005c"/>
                </a:solidFill>
                <a:latin typeface="Arial"/>
              </a:rPr>
              <a:t>MAGNITUD FÍ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836640"/>
            <a:ext cx="56163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gnitudes escalare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, son magnitudes caracterizadas por un valor numérico y una unidad y carecen de dirección y sentido, como por ejemplo, la m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n </a:t>
            </a:r>
            <a:r>
              <a:rPr b="0" lang="en-US" sz="24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física clásica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 la masa, la energía, la temperatura o la densidad de un cuerpo son magnitudes esca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664080" y="4149720"/>
            <a:ext cx="29239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43280" y="1433520"/>
            <a:ext cx="56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gnitudes vectoriale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, son magnitudes que cuentan con: cantidad, dirección y sentido como, por ejemplo, la </a:t>
            </a:r>
            <a:r>
              <a:rPr b="0" lang="en-US" sz="24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velocidad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, la </a:t>
            </a:r>
            <a:r>
              <a:rPr b="0" lang="en-US" sz="24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fuerza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, la </a:t>
            </a:r>
            <a:r>
              <a:rPr b="0" lang="en-US" sz="24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aceleración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, etc. Se representan mediante una flecha o v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656160" y="4367160"/>
            <a:ext cx="1830240" cy="1149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6465960" y="3836880"/>
            <a:ext cx="170640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54200" y="907920"/>
            <a:ext cx="6265800" cy="49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e4005c"/>
                </a:solidFill>
                <a:latin typeface="Arial"/>
              </a:rPr>
              <a:t>MAGNITUDES Y UNIDADES FUND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cc"/>
                </a:solidFill>
                <a:latin typeface="Arial"/>
              </a:rPr>
              <a:t>Longitud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: </a:t>
            </a: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metro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 (m). El metro es la distancia recorrida por la luz en el vacío en 1/299 792 458 segundos. Este patrón fue establecido en año de 198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cc"/>
                </a:solidFill>
                <a:latin typeface="Arial"/>
              </a:rPr>
              <a:t>Tiempo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: </a:t>
            </a: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segundo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 (s). El segundo es la duración de 9 192 631 770 períodos de la radiación correspondiente a la transición entre los dos niveles hiperfinos del estado fundamental del </a:t>
            </a: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cesio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-133. Este patrón fue establecido en el año de 196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cc"/>
                </a:solidFill>
                <a:latin typeface="Arial"/>
              </a:rPr>
              <a:t>Masa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: </a:t>
            </a: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kilogramo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 (kg). El kilogramo es la masa de un cilindro de aleación de Platino-Iridio depositado en la </a:t>
            </a: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  <a:hlinkClick r:id="rId5"/>
              </a:rPr>
              <a:t>Oficina Internacional de Pesas y Medidas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. Este patrón fue establecido en el año de 188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421080" y="981000"/>
            <a:ext cx="5111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005c"/>
                </a:solidFill>
                <a:latin typeface="Arial"/>
              </a:rPr>
              <a:t>MAGNITUDES FÍSICAS DERIV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 pueden expresar como combinación de las magnitudes fundamen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gnitudes  derivadas frecuentes son: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superficie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volumen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velocidad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aceleración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5"/>
              </a:rPr>
              <a:t>densidad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6"/>
              </a:rPr>
              <a:t>frecuencia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7"/>
              </a:rPr>
              <a:t>fuerza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8"/>
              </a:rPr>
              <a:t>presión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9"/>
              </a:rPr>
              <a:t>trabajo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0"/>
              </a:rPr>
              <a:t>calor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1"/>
              </a:rPr>
              <a:t>potencia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2"/>
              </a:rPr>
              <a:t>carga eléctrica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3"/>
              </a:rPr>
              <a:t>diferencia de potencial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etcét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620640"/>
            <a:ext cx="51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4"/>
          <a:stretch/>
        </p:blipFill>
        <p:spPr>
          <a:xfrm>
            <a:off x="3564000" y="4724280"/>
            <a:ext cx="1773000" cy="1824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5"/>
          <a:stretch/>
        </p:blipFill>
        <p:spPr>
          <a:xfrm>
            <a:off x="6443640" y="5084640"/>
            <a:ext cx="1825560" cy="14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629080" y="1508040"/>
            <a:ext cx="554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Sistema Internacional de Unidades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CO" sz="1800" spc="-1" strike="noStrike">
                <a:solidFill>
                  <a:srgbClr val="0000cc"/>
                </a:solidFill>
                <a:latin typeface="Arial"/>
              </a:rPr>
              <a:t>SI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Es el sistema más usado. Sus unidades básicas son: el metro, el kilogramo, el segund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Sistema Cegesimal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 o </a:t>
            </a:r>
            <a:r>
              <a:rPr b="1" lang="es-CO" sz="1800" spc="-1" strike="noStrike">
                <a:solidFill>
                  <a:srgbClr val="0000cc"/>
                </a:solidFill>
                <a:latin typeface="Arial"/>
              </a:rPr>
              <a:t>CGS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.: Denominado así porque sus unidades básicas son el </a:t>
            </a: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centímetro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, el </a:t>
            </a: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gramo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 y el </a:t>
            </a: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segundo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  <a:hlinkClick r:id="rId5"/>
              </a:rPr>
              <a:t>Sistema Inglés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: Aún utilizado en los países anglosajones. Muchos de ellos lo están intentando reemplazar por el Sistema Internacional de Unidades. Sus unidades básicas son : </a:t>
            </a: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</a:rPr>
              <a:t>la pulgada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</a:rPr>
              <a:t>el slug, y el seg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11280" y="1916280"/>
            <a:ext cx="2737080" cy="4105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40360" y="62064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005c"/>
                </a:solidFill>
                <a:latin typeface="Arial"/>
              </a:rPr>
              <a:t>TRABAJO EN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1484280"/>
            <a:ext cx="3095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</a:rPr>
              <a:t>EN PEQUEÑOS  GRUPOS DETERMINA QUE TIPO DE RESIDUOS SÓLIDOS SE PRODUCEN EN TU COLEG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2852640"/>
            <a:ext cx="324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4005c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cc"/>
                </a:solidFill>
                <a:latin typeface="Arial"/>
              </a:rPr>
              <a:t>. AL FINALIZAR LA JORNADA , CLASIFÍCAL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0000" y="393372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4005c"/>
                </a:solidFill>
                <a:latin typeface="Arial"/>
              </a:rPr>
              <a:t>3.</a:t>
            </a:r>
            <a:r>
              <a:rPr b="0" lang="es-ES" sz="1800" spc="-1" strike="noStrike">
                <a:solidFill>
                  <a:srgbClr val="0000cc"/>
                </a:solidFill>
                <a:latin typeface="Arial"/>
              </a:rPr>
              <a:t> MIDE  LA MASA  Y EL VOLUMEN QUE OCUPAN CADA UNO DURANTE UNA SEM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522936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4005c"/>
                </a:solidFill>
                <a:latin typeface="Arial"/>
              </a:rPr>
              <a:t>4</a:t>
            </a:r>
            <a:r>
              <a:rPr b="0" lang="es-ES" sz="1800" spc="-1" strike="noStrike">
                <a:solidFill>
                  <a:srgbClr val="0000cc"/>
                </a:solidFill>
                <a:latin typeface="Arial"/>
              </a:rPr>
              <a:t>. IDENTIFICA PRIMERO LOS INSTRUMENTOS Y UNIDADES A UTILIZ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948360" y="549360"/>
            <a:ext cx="1914480" cy="2158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56000" y="4149720"/>
            <a:ext cx="2232000" cy="2346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43280" y="6922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4005c"/>
                </a:solidFill>
                <a:latin typeface="Arial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1800" spc="-1" strike="noStrike">
                <a:solidFill>
                  <a:srgbClr val="0000cc"/>
                </a:solidFill>
                <a:latin typeface="Arial"/>
              </a:rPr>
              <a:t>REALIZA UNA GRÁFICA DE MASA CONTRA VOLUMEN Y DETERMINA LA DENSIDAD DEL MATE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263700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4005c"/>
                </a:solidFill>
                <a:latin typeface="Arial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1800" spc="-1" strike="noStrike">
                <a:solidFill>
                  <a:srgbClr val="0000cc"/>
                </a:solidFill>
                <a:latin typeface="Arial"/>
              </a:rPr>
              <a:t>CALCULA CUANTA MASA Y VOLUMEN  DE CADA RESIDUO SÓLIDO SE PRODUCIRÍA EN UN MES , EN UN AÑ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92720" y="4797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4005c"/>
                </a:solidFill>
                <a:latin typeface="Arial"/>
              </a:rPr>
              <a:t>7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1800" spc="-1" strike="noStrike">
                <a:solidFill>
                  <a:srgbClr val="0000cc"/>
                </a:solidFill>
                <a:latin typeface="Arial"/>
              </a:rPr>
              <a:t>PRESENTA TU INFORME Y CONCLUSIONES POR ESCR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20:55:16Z</dcterms:created>
  <dc:creator>doctorado</dc:creator>
  <dc:description/>
  <dc:language>en-US</dc:language>
  <cp:lastModifiedBy>Chicos</cp:lastModifiedBy>
  <dcterms:modified xsi:type="dcterms:W3CDTF">2006-11-08T04:16:10Z</dcterms:modified>
  <cp:revision>12</cp:revision>
  <dc:subject/>
  <dc:title>Diapositiva 1</dc:title>
</cp:coreProperties>
</file>