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E50-D6DB-41B2-A3B6-A1F836AB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6E2-88D9-4E4D-9A00-222F11C8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373-F3E0-4807-94D8-BE37598F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8422-A4D2-4C4B-AC75-B4652894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0EA-9203-4F57-8FB0-B5F99FF1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A73-F6F5-4D5E-9002-E9C1ADDE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AB0-83C0-4331-ADD8-715A832C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FE6-3842-44BD-B57A-88AD53B5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4E8-5F2C-4D9A-A89D-F9B47384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80B-115E-4971-9ACB-C7DE66EE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B42-D788-4DEE-8492-534AA24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06C-64E2-4258-B001-2A5B6E2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cc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C6B6C7-6323-4522-9CF9-12043169C1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cc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COMPOSICION DE LOS RES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79640"/>
            <a:ext cx="7283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denomina residuo sólido a un objeto, material o elemento que se rechaza después de ser utilizado o aprovechado y que puede tener o carecer de valor comercial. Los residuos domésticos o R.S.U.  se generan en los hogares, comercios, oficinas, centros comerciales, etc. También se incluyen los enseres voluminosos y otros asimilables a urbanos como jardinería etc., sin embargo no son R.S.U los escombros, residuos de hospitales, desechos tóxicos de industria, talleres, ni los residuos de ganadería, agricultura o min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cc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COMPOSICIÓN PRO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95640" y="1484280"/>
            <a:ext cx="4898880" cy="4654440"/>
            <a:chOff x="2195640" y="1484280"/>
            <a:chExt cx="4898880" cy="4654440"/>
          </a:xfrm>
        </p:grpSpPr>
        <p:sp>
          <p:nvSpPr>
            <p:cNvPr id="45" name=""/>
            <p:cNvSpPr/>
            <p:nvPr/>
          </p:nvSpPr>
          <p:spPr>
            <a:xfrm>
              <a:off x="4608360" y="574200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95640" y="574200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To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08360" y="534672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2,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5640" y="534672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V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08360" y="495144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0,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5640" y="495144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Pilas y Bater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08360" y="455616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4,7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95640" y="455616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eniza y tier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08360" y="416088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2,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95640" y="416088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Met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08360" y="376560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7,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95640" y="376560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Vid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08360" y="337032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13,7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5640" y="337032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Plás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08360" y="297504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1,6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95640" y="297504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Texti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08360" y="257976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38,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95640" y="257976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Papel y cart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08360" y="218448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25,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95640" y="218448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Materia Orgá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08360" y="1484280"/>
              <a:ext cx="2484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SICIÓN PORCENTUAL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95640" y="1484280"/>
              <a:ext cx="2412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MB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95640" y="1484280"/>
              <a:ext cx="489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5640" y="613728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95640" y="1484280"/>
              <a:ext cx="1440" cy="46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3080" y="1484280"/>
              <a:ext cx="1440" cy="46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95640" y="218448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08360" y="1484280"/>
              <a:ext cx="1800" cy="46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5640" y="257976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5640" y="297504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95640" y="337032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5640" y="376560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5640" y="416088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5640" y="455616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95640" y="495144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95640" y="534672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5640" y="574200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cc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 importante tener en cuenta la caracterización de los Residuos sólidos Urbanos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teria Orgánic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tos procedentes de la limpieza o preparación de al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pel y Cartó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iódicos, revistas, publicidad, cajas, embalaje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ástico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ellas, bolsas, embalajes, platos, vasos, cubiertos, Desechabl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dri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tellas, frascos diversos, vajillas rota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le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dentes de cubiertos, trozos ferrosos y no ferroso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USUARIO</cp:lastModifiedBy>
  <cp:revision>0</cp:revision>
  <dc:subject/>
  <dc:title>COMPOSICION DE LOS RESIDUOS</dc:title>
</cp:coreProperties>
</file>