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342-FA3D-4817-AB4F-B5DF6FAC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16C-9E1E-4D48-A342-CE00261E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3BA-CFCE-4393-8454-7690CF2B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6B3-21E8-460B-A046-FFF6E4FF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42B-CC58-4944-8D13-82627E0D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602-1EB4-4ABC-8AA6-58A3CBE6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50B-45F1-4F0E-BD09-3E84D25A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A79-25C0-4366-886C-9EEBB795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BEF-1490-45A1-8707-1471BE0B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B4D-F1BE-435F-B843-143C312F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F89-C7B6-458A-A0E7-52456048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FA8-ABD5-4D1E-BF61-7DA12E5F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A78325-E85C-4C0A-B963-9ED6837A33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9999"/>
                </a:solidFill>
                <a:latin typeface="Arial"/>
              </a:rPr>
              <a:t>Componentes del bioga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5543640" cy="394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USUARIO</cp:lastModifiedBy>
  <cp:revision>0</cp:revision>
  <dc:subject/>
  <dc:title>Componentes del biogás </dc:title>
</cp:coreProperties>
</file>