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2EB-A0C7-45A8-9CCB-B7A21775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011-D7E1-4F0C-AD3B-E2C223A3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BA5-8932-4679-B160-CC9114D3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5FA-4F09-4946-B178-580B1EDB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EA5-BE38-4236-9B91-59A7DAB2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5E2-481A-4660-970C-15BFA827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11B-3B98-4BC8-B156-B1AE7995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7AC-798C-4A72-94D4-E4102029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117-5F1B-458B-9FD5-3E683020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DEA-EBC0-4C46-87E8-8EBC252D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07E-DEFE-4C5B-B612-9D65700A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9BB-7531-4A85-8F2A-6AA5D5EC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5C19-0579-4BC2-8694-9D89C4506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sición de líquidos percolados de un relleno sanitario con desechos doméstic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916280"/>
            <a:ext cx="42908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20:28:09Z</dcterms:created>
  <dc:creator>POLICIA NACIONAL</dc:creator>
  <dc:description/>
  <dc:language>en-US</dc:language>
  <cp:lastModifiedBy>USUARIO</cp:lastModifiedBy>
  <dcterms:modified xsi:type="dcterms:W3CDTF">2007-08-26T16:05:28Z</dcterms:modified>
  <cp:revision>2</cp:revision>
  <dc:subject/>
  <dc:title>Composición de líquidos percolados de un relleno sanitario con desechos domésticos </dc:title>
</cp:coreProperties>
</file>