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407D5-E3ED-4605-8D0E-C4CE574B9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B318B-612B-47A6-BF75-5FA440671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5AA65-C9A4-4455-AC37-B844A0F7A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89552-100E-4C6E-BE4C-E33271448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D64AF-1806-42F4-AC37-D7D726841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B9BD0-E935-4F0A-BE0D-F79615444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2E8AC-FA5A-4AA3-85B6-15D830335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A2C3B-CBA9-49FB-A433-ED038E1CF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09819-B081-4A91-9BF0-1572C2D9B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B1AA0-47BC-4DB2-AD51-6D8AE946C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63B82-CCC5-4A0F-BE50-588E256FF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8B13F-A5CB-4C97-914F-9C0B6A53C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3295-F440-4708-ABF6-B65CBF0FC2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339640" y="692280"/>
            <a:ext cx="42433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Arial"/>
              </a:rPr>
              <a:t>EVAPORACIÓN</a:t>
            </a:r>
            <a:endParaRPr b="0" lang="en-US" sz="4000" spc="-1" strike="noStrike">
              <a:solidFill>
                <a:srgbClr val="000000"/>
              </a:solidFill>
              <a:latin typeface="Arial"/>
            </a:endParaRPr>
          </a:p>
        </p:txBody>
      </p:sp>
      <p:sp>
        <p:nvSpPr>
          <p:cNvPr id="42" name="PlaceHolder 2"/>
          <p:cNvSpPr>
            <a:spLocks noGrp="1"/>
          </p:cNvSpPr>
          <p:nvPr>
            <p:ph type="subTitle"/>
          </p:nvPr>
        </p:nvSpPr>
        <p:spPr>
          <a:xfrm>
            <a:off x="971280" y="1557360"/>
            <a:ext cx="7343640" cy="4967280"/>
          </a:xfrm>
          <a:prstGeom prst="rect">
            <a:avLst/>
          </a:prstGeom>
          <a:noFill/>
          <a:ln w="0">
            <a:noFill/>
          </a:ln>
        </p:spPr>
        <p:txBody>
          <a:bodyPr lIns="90000" rIns="90000" tIns="46800" bIns="46800" anchor="t">
            <a:no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nversión gradual de un líquido en gas sin que haya ebullición. Las moléculas de cualquier líquido se encuentran en constante movimiento. La velocidad media (o promedio) de las moléculas sólo depende de la temperatura. A temperaturas por debajo del punto de ebullición, es posible que moléculas individuales que se aproximen a la superficie con una velocidad superior a la media tengan suficiente energía para escapar de la superficie y pasar al espacio situado por encima como moléculas de g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3" presetSubtype="16">
                                  <p:stCondLst>
                                    <p:cond delay="0"/>
                                  </p:stCondLst>
                                  <p:childTnLst>
                                    <p:set>
                                      <p:cBhvr>
                                        <p:cTn id="12" dur="1" fill="hold">
                                          <p:stCondLst>
                                            <p:cond delay="0"/>
                                          </p:stCondLst>
                                        </p:cTn>
                                        <p:tgtEl>
                                          <p:spTgt spid="41"/>
                                        </p:tgtEl>
                                        <p:attrNameLst>
                                          <p:attrName>style.visibility</p:attrName>
                                        </p:attrNameLst>
                                      </p:cBhvr>
                                      <p:to>
                                        <p:strVal val="visible"/>
                                      </p:to>
                                    </p:set>
                                    <p:animEffect filter="plus(in)" transition="in">
                                      <p:cBhvr additive="repl">
                                        <p:cTn id="13"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Esto puede suceder en un relleno sanitario con los líquidos percolados o lixiviados como consecuencia de la impermeabilización del relleno y del aumento de temperatura al desencadenarse ciertas cambios químicos con algunos residuo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Si se crea una corriente de aire sobre su superficie el  líquido lixiviado se evaporaría con la máxima rapide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43">
                                            <p:txEl>
                                              <p:pRg st="0" end="0"/>
                                            </p:txEl>
                                          </p:spTgt>
                                        </p:tgtEl>
                                        <p:attrNameLst>
                                          <p:attrName>style.visibility</p:attrName>
                                        </p:attrNameLst>
                                      </p:cBhvr>
                                      <p:to>
                                        <p:strVal val="visible"/>
                                      </p:to>
                                    </p:set>
                                    <p:animEffect filter="diamond(in)" transition="in">
                                      <p:cBhvr additive="repl">
                                        <p:cTn id="20" dur="2000"/>
                                        <p:tgtEl>
                                          <p:spTgt spid="43">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43">
                                            <p:txEl>
                                              <p:pRg st="1" end="1"/>
                                            </p:txEl>
                                          </p:spTgt>
                                        </p:tgtEl>
                                        <p:attrNameLst>
                                          <p:attrName>style.visibility</p:attrName>
                                        </p:attrNameLst>
                                      </p:cBhvr>
                                      <p:to>
                                        <p:strVal val="visible"/>
                                      </p:to>
                                    </p:set>
                                    <p:animEffect filter="diamond(in)" transition="in">
                                      <p:cBhvr additive="repl">
                                        <p:cTn id="25" dur="2000"/>
                                        <p:tgtEl>
                                          <p:spTgt spid="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20:36:24Z</dcterms:created>
  <dc:creator>POLICIA NACIONAL</dc:creator>
  <dc:description/>
  <dc:language>en-US</dc:language>
  <cp:lastModifiedBy>USUARIO</cp:lastModifiedBy>
  <dcterms:modified xsi:type="dcterms:W3CDTF">2007-08-25T22:48:14Z</dcterms:modified>
  <cp:revision>4</cp:revision>
  <dc:subject/>
  <dc:title>EVAPORACIÓN</dc:title>
</cp:coreProperties>
</file>