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AC16-6EB7-4F44-AF84-8797714B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A9D0-08A5-4CB0-BBB4-37A544C4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F76F-E959-406A-AD39-DB39DF8E2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4BE6-06BA-41B2-95B0-A61677C7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0D6A-363F-496E-8974-206842EC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010B-B152-46AA-8139-9DC2F296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5212-B5FA-465D-9160-88205798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3C84-3CD6-417C-8BDE-DEB0C215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2EC8-5F57-4C7F-95A0-03C7F62E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541E-546F-4344-B55B-5A4CB55E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08E5-E1EA-4621-BA75-C9458CEB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F7B3-3A63-4945-8551-FF36D87A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F8DF-1C3A-492E-B146-3644A16D1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362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333399"/>
                </a:solidFill>
                <a:latin typeface="Arial"/>
              </a:rPr>
              <a:t>LA INCINERACION DE LA BASURA COMO FUENTE DE CONTAMINACION ATMOSF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63416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algunos sitios la basura se incinera, con lo cual, la materia aparentemente desaparece pronto de nuestra vista, sin embargo, los efectos sobre la atmósfera no se dejan esper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ayoría de los incineradores que se usan para producir energía eléctrica son de combustión en masa, que queman basura mezclada, sin separar materiales peligrosos como acumuladores o baterías de automóviles y materiales no combustibles que pueden interferir con las condiciones de combustión y provocar gran contaminación atmosférica. Dinamarca y Suecia queman el 50 % de sus desechos sólidos para producir energía y sólo el 10 % en Estados Unidos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cenizas de los incineradores, en general, contienen sustancias peligrosas como dioxinas, ácido clorhídrico, furanos, plomo, mercurio, cadmio y otros metales tóxicos que pueden generar cáncer y trastornos en el sistema nervioso. Sólo en Japón tiran las cenizas en rellenos diseñados para manejar desechos peligro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onstrucción de incineradores es muy costosa, al igual que su operación y mantenimiento. Aún con dispositivos avanzados de control de contaminación, se emiten diversas sustancias tóxicas a la atmósf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ambientalistas se oponen a que se dependa del uso de incineradores porque anima a la gente a continuar arrojando papeles, plásticos y otros materiales que se pueden quemar, en lugar de buscar maneras de conservar, reciclar y reusar esos recursos, y reducir la producción de desechos. Además, los incineradores deben de procesar  una gran cantidad de basura para que sean úti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quema de llantas genera contaminantes atmosféricos como el dióxido de carbono, partículas de hollín, cadmio, arsénico, plomo y zinc; además al quemarlas se produce petróleo crudo que contamina el agua y el suelo cerc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21:22:07Z</dcterms:created>
  <dc:creator>POLICIA NACIONAL</dc:creator>
  <dc:description/>
  <dc:language>en-US</dc:language>
  <cp:lastModifiedBy>USUARIO</cp:lastModifiedBy>
  <dcterms:modified xsi:type="dcterms:W3CDTF">2007-08-25T23:20:10Z</dcterms:modified>
  <cp:revision>2</cp:revision>
  <dc:subject/>
  <dc:title>LA INCINERACION DE LA BASURA COMO FUENTE DE CONTAMINACION ATMOSFERICA</dc:title>
</cp:coreProperties>
</file>