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E39C-90B8-4CAD-967D-D51238D8E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4EBF4-5C43-4652-AFD9-67585AF5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AD034-F315-49BF-8519-D0C77771D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EF23-DDC2-4C8D-B5FA-4E4666618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02EBE-40C5-4B00-BE3A-8B460B831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2FF0-2E1F-4DDB-BED2-148A6E97F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3353-E6CA-412B-87DD-B3DEECC2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A0CC-BB19-4038-86C5-0C33C86C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FCE48-9465-4788-8C8E-63BA2F679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2480-711A-4CCD-B870-8DD03551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E9A5-84CE-4ABF-8D29-BEC635F5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17D4-7B24-415D-B71A-92CA84558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A3C1-510F-44D2-AAE6-CBE5F591C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900000" y="231120"/>
            <a:ext cx="7488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600" spc="-1" strike="noStrike">
                <a:solidFill>
                  <a:srgbClr val="000000"/>
                </a:solidFill>
                <a:latin typeface="Arial"/>
              </a:rPr>
              <a:t>LIXIVIACIÓN DE LOS RESIDUOS SÓLIDO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
          <p:cNvSpPr/>
          <p:nvPr/>
        </p:nvSpPr>
        <p:spPr>
          <a:xfrm>
            <a:off x="900000" y="1829160"/>
            <a:ext cx="774072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lixiviación es el proceso de lavado que realiza el agua que se infiltra en el suel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s residuos, especialmente los orgánicos, al ser compactados por maquinaria pasada liberan agua y líquidos orgánicos, contenidos en su interior, el que escurre preferencialmente hacia la base de la celda.</a:t>
            </a:r>
            <a:r>
              <a:rPr b="0" lang="en-US" sz="2400" spc="-1" strike="noStrike">
                <a:solidFill>
                  <a:srgbClr val="000000"/>
                </a:solidFill>
                <a:latin typeface="Arial"/>
              </a:rPr>
              <a:t> </a:t>
            </a:r>
            <a:r>
              <a:rPr b="1" lang="en-US" sz="2400" spc="-1" strike="noStrike">
                <a:solidFill>
                  <a:srgbClr val="000000"/>
                </a:solidFill>
                <a:latin typeface="Arial"/>
              </a:rPr>
              <a:t>La basura, que actúa en cierta medida como una esponja, recupera lentamente parte de estos líquidos al cesar la presión de la maquinaria, pero parte de él permanece en la base de la celd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 calcmode="lin" valueType="num">
                                      <p:cBhvr additive="base">
                                        <p:cTn id="18"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2">
                                            <p:txEl>
                                              <p:pRg st="2" end="2"/>
                                            </p:txEl>
                                          </p:spTgt>
                                        </p:tgtEl>
                                        <p:attrNameLst>
                                          <p:attrName>style.visibility</p:attrName>
                                        </p:attrNameLst>
                                      </p:cBhvr>
                                      <p:to>
                                        <p:strVal val="visible"/>
                                      </p:to>
                                    </p:set>
                                    <p:anim calcmode="lin" valueType="num">
                                      <p:cBhvr additive="base">
                                        <p:cTn id="24"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or otra parte, la descomposición anaeróbica rápidamente comienza actuar en un relleno sanitario, produciendo cambios en la materia orgánica, primero de sólidos a liquido y luego de liquido a gas, pero es la fase de licuefacción la que ayuda a incrementar el contenido de liquido en el relleno, y a la vez su potencial contaminan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e momento se puede considerar que las basuras están completamente saturadas y cualquier agua, ya sea subterránea o superficial, que se infiltre en el relleno, lixiviara a través de los desechos arrastrando consigo sólidos en suspensión, y compuestos orgánicos en solución.</a:t>
            </a:r>
            <a:r>
              <a:rPr b="0" lang="en-US" sz="2400" spc="-1" strike="noStrike">
                <a:solidFill>
                  <a:srgbClr val="000000"/>
                </a:solidFill>
                <a:latin typeface="Arial"/>
              </a:rPr>
              <a:t> </a:t>
            </a:r>
            <a:r>
              <a:rPr b="1" lang="en-US" sz="2400" spc="-1" strike="noStrike">
                <a:solidFill>
                  <a:srgbClr val="000000"/>
                </a:solidFill>
                <a:latin typeface="Arial"/>
              </a:rPr>
              <a:t>Esta mezcla heterogénea, de un elevado potencial contaminante, es lo que se denomina </a:t>
            </a:r>
            <a:r>
              <a:rPr b="1" lang="en-US" sz="2400" spc="-1" strike="noStrike">
                <a:solidFill>
                  <a:srgbClr val="ff3300"/>
                </a:solidFill>
                <a:latin typeface="Arial"/>
              </a:rPr>
              <a:t>lixiviados </a:t>
            </a:r>
            <a:r>
              <a:rPr b="1" lang="en-US" sz="2400" spc="-1" strike="noStrike">
                <a:solidFill>
                  <a:srgbClr val="000000"/>
                </a:solidFill>
                <a:latin typeface="Arial"/>
              </a:rPr>
              <a:t>o </a:t>
            </a:r>
            <a:r>
              <a:rPr b="1" lang="en-US" sz="2400" spc="-1" strike="noStrike">
                <a:solidFill>
                  <a:srgbClr val="ff3300"/>
                </a:solidFill>
                <a:latin typeface="Arial"/>
              </a:rPr>
              <a:t>líquidos perco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dealmente, un relleno de desechos sólidos debe estar ubicado en una área donde la permeabilidad del suelo subyacente es muy reducida, su naturaleza mitiga los constituyentes químicos disueltos, y los usos de las aguas receptoras subterráneas o superficiales no serían afectados mayormente por su contaminación. Cuando prevalecen condiciones menos ideales en el sitio, el diseño puede incluir la colocación y compactación de una capa de suelo arcilloso relativamente impermeable entre la base del relleno y la primera capa de desechos sóli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45">
                                            <p:txEl>
                                              <p:pRg st="0" end="0"/>
                                            </p:txEl>
                                          </p:spTgt>
                                        </p:tgtEl>
                                        <p:attrNameLst>
                                          <p:attrName>style.visibility</p:attrName>
                                        </p:attrNameLst>
                                      </p:cBhvr>
                                      <p:to>
                                        <p:strVal val="visible"/>
                                      </p:to>
                                    </p:set>
                                    <p:animEffect filter="fade" transition="in">
                                      <p:cBhvr additive="repl">
                                        <p:cTn id="32" dur="800"/>
                                        <p:tgtEl>
                                          <p:spTgt spid="45">
                                            <p:txEl>
                                              <p:pRg st="0" end="0"/>
                                            </p:txEl>
                                          </p:spTgt>
                                        </p:tgtEl>
                                      </p:cBhvr>
                                    </p:animEffect>
                                    <p:anim calcmode="lin" valueType="num">
                                      <p:cBhvr additive="repl">
                                        <p:cTn id="33"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ando la naturaleza del desecho o del sitio requiera la recolección de la lixiviación, se debe considerar el problema de tratamiento y control. De ser posible, la lixiviación recolectada debe ser descargada en la alcantarilla más cercana para ser manejada como parte del sistema de tratamiento de aguas servidas del área. Si no hay alcantarillas ubicadas en las cercanías del relleno, se debe efectuar un tratamiento local por mecanismos biológicos y de sedimentación. Se debe considerar la recirculación de la lixiviación tratada, de vuelta al sistema del rell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800"/>
                                        <p:tgtEl>
                                          <p:spTgt spid="46">
                                            <p:txEl>
                                              <p:pRg st="0" end="0"/>
                                            </p:txEl>
                                          </p:spTgt>
                                        </p:tgtEl>
                                      </p:cBhvr>
                                    </p:animEffect>
                                    <p:anim calcmode="lin" valueType="num">
                                      <p:cBhvr additive="repl">
                                        <p:cTn id="45" dur="800" fill="hold"/>
                                        <p:tgtEl>
                                          <p:spTgt spid="46">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46">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46">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46">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4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1:24:30Z</dcterms:created>
  <dc:creator>POLICIA NACIONAL</dc:creator>
  <dc:description/>
  <dc:language>en-US</dc:language>
  <cp:lastModifiedBy>USUARIO</cp:lastModifiedBy>
  <dcterms:modified xsi:type="dcterms:W3CDTF">2007-08-25T22:13:40Z</dcterms:modified>
  <cp:revision>7</cp:revision>
  <dc:subject/>
  <dc:title>LIXIVIACIÓN DE LOS RESIDUOS SÓLIDOS</dc:title>
</cp:coreProperties>
</file>