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3EB3-1998-4B65-9D0B-2EEA40CB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AB36-1406-4105-9479-718ACC4E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A56-3993-4059-88D9-0FB755D2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22F-1D66-4EF0-AC1B-A694A481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863-7F0B-4BFC-8A6D-C9EE2552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4D3-82B0-40B5-BA30-1A716318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860E-F6C9-45F8-B6AE-3D879590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457-2E8B-4DF7-AB3E-0C3E19DE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23D-169A-485F-B3C2-7E96752A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FD60-BBF8-4DA7-8172-1F9F2DAE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1563-E1F9-4351-9E93-001F2ACC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A67F-DC32-4240-A0EA-2FB00436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8A49F0-CD40-4DF6-8E49-77C18CC73A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Residuos sólidos biodegrad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0720" y="2339640"/>
            <a:ext cx="79675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descomponen en forma natural en un tiempo relativamente corto. Por ejemplo: los desechos orgánicos como los alimentos, tardan poco tiempo en descomponerse por la acción de los organismos llamados bacterias y hong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647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Residuos sólidos no biodegrad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00000" y="2339640"/>
            <a:ext cx="778680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se descomponen fácilmente sino que tardan mucho tiempo en hacerlo. Por ejemplo: el vidrio tarda unos 4.000 años, el plástico tarda de 100 a 1.000 años, una lata de refresco tarda unos 10 años y un chicle unos cinco añ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UARIO</dc:creator>
  <dc:description/>
  <dc:language>en-US</dc:language>
  <cp:lastModifiedBy>USUARIO</cp:lastModifiedBy>
  <cp:revision>0</cp:revision>
  <dc:subject/>
  <dc:title>Residuos sólidos biodegradables</dc:title>
</cp:coreProperties>
</file>