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BE97-5AA7-481E-9D15-2AB59DD1E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EA82-14BB-4386-90A1-F48000EEB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DA38-4279-4265-9023-AC46362EE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B6A5-DD8E-4B9D-A440-61EECA6F9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23F0-D4C6-4B48-BBCB-7BF3EEEF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3CDB-D443-4126-AAE5-ADB9FA5B6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D4E0-745D-44C0-90CA-8E4F62DBA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D527-17CF-4C8F-A0FB-16A520051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66C5-DA41-4939-9EB6-EC3B692AA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4C4B-C77F-4863-BC44-9337C63C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7791-4660-4988-B339-BF496D44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0F93-F945-4D15-BB2E-2EF6448C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9ff"/>
            </a:gs>
            <a:gs pos="50000">
              <a:srgbClr val="ffffff"/>
            </a:gs>
            <a:gs pos="100000">
              <a:srgbClr val="ffb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923A9FC-B5BA-4D74-945F-DA7DDAB5ACB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9ff"/>
            </a:gs>
            <a:gs pos="50000">
              <a:srgbClr val="ffffff"/>
            </a:gs>
            <a:gs pos="100000">
              <a:srgbClr val="ffb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Residuos sólidos orgán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00000" y="2339640"/>
            <a:ext cx="778680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enen de la materia viva e incluyen restos de alimentos, cáscaras de plátano papa, hortalizas, papel, cartón y estiércol, entre ot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n considerados desechos de descomposición rápi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9ff"/>
            </a:gs>
            <a:gs pos="50000">
              <a:srgbClr val="ffffff"/>
            </a:gs>
            <a:gs pos="100000">
              <a:srgbClr val="ffb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Residuos sólidos inorgán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20720" y="2879640"/>
            <a:ext cx="7967520" cy="32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25000"/>
              <a:buFont typeface="Symbol" charset="2"/>
              <a:buChar char="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vienen de la materia inerte como el vidrio, plásticos, metales, y otros materia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quieren de mayor tiempo para descompone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UARIO</dc:creator>
  <dc:description/>
  <dc:language>en-US</dc:language>
  <cp:lastModifiedBy>USUARIO</cp:lastModifiedBy>
  <cp:revision>0</cp:revision>
  <dc:subject/>
  <dc:title>Residuos sólidos orgánicos</dc:title>
</cp:coreProperties>
</file>