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2E82-4547-45B8-B817-B4B8887E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DCB0-9889-4659-80DD-48FCA879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13B5-6C55-465B-8651-C8C3766BB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1843-523E-4AC2-BF95-30828996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7FE2-7D24-462A-AEF0-FDEAA99C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2803-B416-4487-B79F-97EDF695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9546-D98F-4C3C-B73B-0007F2F5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DF78-8A8B-4402-83E9-727A13D8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4356-A1F2-4F3F-86D6-B9C05F6F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36BA-3245-48D8-A128-E44E46D2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F37E-ADA4-4401-B711-AEDD6452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57A6-189D-481D-951A-7B7EA3C5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7FE8-E605-473B-9EB2-5B7AF45E5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3640" y="476280"/>
            <a:ext cx="50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SUBLIM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34136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mbio de una sustancia del estado sólido al vapor sin pasar por el estado líqu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gunas de las moléculas de un sólido pueden vibrar muy rápidamente, vencer las fuerzas de cohesión y escapar como moléculas gaseosas al espacio libre: el sólido se sublima. Inversamente, al chocar estas moléculas gaseosas contra la superficie del sólido, pueden quedar retenidas, condensándose el vapor. El equilibrio que tiene lugar cuando la velocidad de sublimación y la de condensación son iguales se caracteriza por una presión de vapor que depende de la naturaleza del sólido y de la tempera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olores característicos de muchas sustancias sólidas, como el yodo, el naftaleno, el yodoformo y los perfumes sólidos, son debidos a que estas sustancias tienen una presión de vapor apreciable a temperatura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proceso de sublimación va acompañado necesariamente de una absorción de energía térmica. Mucho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siduos sólido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ueden sublimar fácilmente debido a la absorción de energía tér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20:31:43Z</dcterms:created>
  <dc:creator>POLICIA NACIONAL</dc:creator>
  <dc:description/>
  <dc:language>en-US</dc:language>
  <cp:lastModifiedBy>USUARIO</cp:lastModifiedBy>
  <dcterms:modified xsi:type="dcterms:W3CDTF">2007-08-25T22:47:33Z</dcterms:modified>
  <cp:revision>5</cp:revision>
  <dc:subject/>
  <dc:title>SUBLIMACIÓN</dc:title>
</cp:coreProperties>
</file>