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19F9-F4B1-47C7-9703-ABE9BCE6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C8C1-95DB-47D0-AAD6-26AFE122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1E7F-1AF4-479E-A0E0-8EE501AD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116D-BCA8-4127-A918-2E2B6312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431E-62AD-48B3-9FFD-AB94DB35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63E-6B6E-4DD9-9C16-3B92CF3F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3441-BA19-48B4-9471-BFB1F4D3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6717-8FC3-4E2C-94CC-5C8987F6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7EB4-A514-49EA-B0EC-A149B3F3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3B89-1584-42DB-B54F-CE0C32CF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89D7-DCA6-499E-A584-498AC3C0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0124-C3C8-4327-8004-16094983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9B8C-E147-4646-9699-7F44F2B8D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cc"/>
                </a:solidFill>
                <a:latin typeface="Arial"/>
              </a:rPr>
              <a:t>Separación magnétic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1628280"/>
            <a:ext cx="7264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Es la Magnetización, que es el proceso que sirve para separar dos sólidos y que la característica de uno de ellos sea ferroso o tenga propiedades magnéticas. El método consiste en acercar un imán a la mezcla a fin de generar un campo magnético que atraiga al compuesto ferroso dejando solamente al material no ferroso en el contenedor. Por ejemplo: Separar limadura de hierro del azufre: Se acerca un imán a la sustancia y la limadura de hierro se pegará a este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En el caso de la separación manual de los residuos sólidos el material ferroso presente puede ser separado mediante este proce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Las fuerzas magnéticas son producidas por el movimiento de partículas cargadas, como por ejemplo electrones, lo que indica la estrecha relación entre la electricidad y el magnet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6T16:24:01Z</dcterms:created>
  <dc:creator>USUARIO</dc:creator>
  <dc:description/>
  <dc:language>en-US</dc:language>
  <cp:lastModifiedBy>USUARIO</cp:lastModifiedBy>
  <dcterms:modified xsi:type="dcterms:W3CDTF">2007-08-26T16:26:16Z</dcterms:modified>
  <cp:revision>1</cp:revision>
  <dc:subject/>
  <dc:title>Separación magnética.</dc:title>
</cp:coreProperties>
</file>