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68F-C8A2-4EDD-B705-AF8CD08A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27F-7A47-44D6-A1B1-81CF9275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DC3-AD8D-429E-8C9F-FC46EF24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8B5-8579-42BB-BAC3-E7123283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E6F-78B6-443D-B9A8-72726740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746-77DF-4FFD-AEF1-026EBA27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769-3178-4FAA-938D-D9781C5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B6F-6C57-4EB2-B98D-86681F6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11C-4FCC-43D5-BE1E-9B76FA1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671-BB5A-40C6-8695-50AE41F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A80-ECC4-411B-AEC0-39876A9C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F82-7B5F-4DB4-93F3-25A69E0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C616-6E2A-4C8E-BF12-F2BEA9BE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TAM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699920"/>
            <a:ext cx="7058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 una de las etapas finales de la elaboración del humus en un relleno sanitario los residuos orgánicos mezclados con cal son pasados a través de un tamiz para obtener un producto más fin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6:37:33Z</dcterms:created>
  <dc:creator>USUARIO</dc:creator>
  <dc:description/>
  <dc:language>en-US</dc:language>
  <cp:lastModifiedBy>USUARIO</cp:lastModifiedBy>
  <dcterms:modified xsi:type="dcterms:W3CDTF">2007-08-26T16:37:44Z</dcterms:modified>
  <cp:revision>1</cp:revision>
  <dc:subject/>
  <dc:title>TAMIZADO</dc:title>
</cp:coreProperties>
</file>