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2DDA3-D5DE-47F3-8FF3-72A0E3E39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6222F-A523-49E2-B933-1A6047A6A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FBE6F-94D4-4029-ABB2-D82DEA09C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24777-5F14-4F07-A322-78876A0FB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25E6C-4C9A-48A7-817A-516147601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9AA6E-86B4-428B-BE4F-B92096B51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2CA5B-C5B3-4F6A-9BEB-961BEEDB2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3F630-88B6-4D63-A44C-AB6EBA140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E58D5-5ABF-4269-BF73-ADCE7ECD4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4FF53-D4FE-48AA-AB11-DD9CAD8EC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73CB5-7AA1-4D0E-B013-A3A08F1B2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21006-C11F-429F-B59E-1F63BCF2D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F207-E874-473A-B3B8-7AC54C0487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f43"/>
                </a:solidFill>
                <a:latin typeface="Arial"/>
              </a:rPr>
              <a:t>ACTIVIDAD BIOLOGICA DENTRO DEL RELLENO SANITARIO</a:t>
            </a:r>
            <a:endParaRPr b="0" lang="en-US" sz="32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a actividad biológica dentro de un relleno sanitario se presenta en dos etapas relativamente bien definidas :</a:t>
            </a:r>
            <a:endParaRPr b="0" lang="en-US" sz="2800" spc="-1" strike="noStrike">
              <a:solidFill>
                <a:srgbClr val="000000"/>
              </a:solidFill>
              <a:latin typeface="Arial"/>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just">
              <a:lnSpc>
                <a:spcPct val="80000"/>
              </a:lnSpc>
              <a:spcBef>
                <a:spcPts val="7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ff"/>
                </a:solidFill>
                <a:latin typeface="Arial"/>
              </a:rPr>
              <a:t>Fase aeróbica</a:t>
            </a:r>
            <a:r>
              <a:rPr b="1" lang="en-US" sz="2800" spc="-1" strike="noStrike">
                <a:solidFill>
                  <a:srgbClr val="000000"/>
                </a:solidFill>
                <a:latin typeface="Arial"/>
              </a:rPr>
              <a:t> : Inicialmente, parte del material orgánico presente en las basuras es metabolizado aeróbicamente (mientras exista disponible oxigeno libre), produciéndose un fuerte aumento en la temperatura. Los productos que caracterizan esta etapa son el dióxido de carbono, agua, nitritos y nitra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981000"/>
            <a:ext cx="8229600" cy="45259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ccff"/>
                </a:solidFill>
                <a:latin typeface="Arial"/>
              </a:rPr>
              <a:t>Fase anaeróbica</a:t>
            </a:r>
            <a:r>
              <a:rPr b="1" lang="es-ES" sz="2800" spc="-1" strike="noStrike">
                <a:solidFill>
                  <a:srgbClr val="000000"/>
                </a:solidFill>
                <a:latin typeface="Arial"/>
              </a:rPr>
              <a:t> : A medida que el oxigeno disponible se va agotando, los organismos facultativos y anaeróbicos empiezan a predominar y proceden con la descomposición de la materia orgánica, pero más lentamente que la primera etapa. Los productos que caracterizan esta etapa son el dióxido de carbono, ácidos orgánicos, nitrógeno, amoniaco, hidrógeno, metano, compuestos sulfurados (responsables del mal olor) y sulfitos de fierro, manganeso e hidrógeno.</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68000" y="980640"/>
            <a:ext cx="8218440" cy="44974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demás, algunos de estos productos producen reacciones químicas dentro y fuera del relleno. En consecuencia, otras reacciones similares se llevan a cabo, como resultado de la interacción de algunos subproductos de descomposición, entre ellos mismos o con las basuras con que entran en contactos. Muchos de estos productos, en la eventualidad de emerger libremente del relleno, como gases o líquidos, podrían provocar serios trastornos ambien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1T19:53:00Z</dcterms:created>
  <dc:creator>POLICIA NACIONAL</dc:creator>
  <dc:description/>
  <dc:language>en-US</dc:language>
  <cp:lastModifiedBy>USUARIO</cp:lastModifiedBy>
  <dcterms:modified xsi:type="dcterms:W3CDTF">2007-08-25T23:33:10Z</dcterms:modified>
  <cp:revision>3</cp:revision>
  <dc:subject/>
  <dc:title>Diapositiva 1</dc:title>
</cp:coreProperties>
</file>