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3AB2-7927-4E55-9E09-34B4B168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7DCE-18CA-4C4A-970E-210FA810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F5AB-348B-42B4-8D0E-CD89F769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0FB5-0B24-44A1-A96E-50EB1889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C92D-9F86-487D-98F2-0AE88D5A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1C72-CF20-452B-87F0-3C8BA419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44F9-FF6D-42EB-ACEC-DD3D0110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FFD4-0897-4A19-A700-C08E2615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2F40-E53D-43F1-B480-2D2655CB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069A-DDB5-47F5-A25B-D38271DB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EEE5-1367-4DF9-A2BE-72FAA2B7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01C0-42A5-4C12-AE22-A1B5249B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CC6E61-52D8-4074-9E3C-EE0CEEDBEF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LA PIRAMIDE ALIMENTI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 ideal es ingerir en la dieta diaria, varios alimentos de los grupos básicos. Las re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as alimentarias mas actuales, adquieren la figura de una pirámide alimenticia, don-de se aprecian los seis grupos, en propor-ciones adecuadas de una dieta salu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PIRAMIDE DE ALI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RUPOS BASICOS DE ALIM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rne de res, pollo, pescados, huevos, fríjol, arvejas, garbanzos, lentejas, soja, nueces, legumbres son fuente importante de proteí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 agua pura no contiene calorías, es la mejor bebida para la sed, el cuerpo no la almacena, hay que tomarla en abundancia para reponerla y mantener buen funcionamiento de las células y del organismo. Es la sustancia mas abundante del cuerpo y es vital, su contenido nutrimental es bajo, no contiene azúc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dur="indefinite" fill="hold">
                      <p:stCondLst>
                        <p:cond delay="0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7" dur="1" fill="hold"/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PIRAMIDE DE ALI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IETA IDEAL. Estas recomendaciones alimenticias, se basan en estudios de per-sonas cuyos niveles de colesterol y el índice de enfermedades cardiovasculares y de cáncer son muy bajos. Su dieta es baja en grasas saturadas y alta en grasas monoinsaturadas, contiene mas cereales, verduras, frutas, legumbres, nueces, acei-te de oliva, pescados, aves, queso, huevo y yogu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dur="indefinite" fill="hold">
                      <p:stCondLst>
                        <p:cond delay="0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25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PIRAMIDE DE ALI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ODO DE VIDA SALU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Una dieta rica en alimentos frescos y grasas benéf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Una vida activa y al aire li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ontribuyen a una muy buena sal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dur="indefinite" fill="hold">
                      <p:stCondLst>
                        <p:cond delay="0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dur="indefinite" fill="hold">
                      <p:stCondLst>
                        <p:cond delay="indefinite"/>
                      </p:stCondLst>
                      <p:childTnLst>
                        <p:par>
                          <p:cTn id="1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PIRAMIDE DE ALI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AS FRUTA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Son ricas en vitamina C y los fitoquímicos, incluidos los antioxidan-tes, que destruyen los radicales libres, sustancias dañinas que al acumularse producen cáncer. Los fitoquímicos pueden ser flavonoides y fitofenoles, juntos produ-cen un poderoso efecto antioxidante. Otros fitoquímicos de las frutas son antia-lergénicos, anticancerígenos, antivirales y antinflamatorios. Una fruta al día nos libra de tomar medici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dur="indefinite" fill="hold">
                      <p:stCondLst>
                        <p:cond delay="0"/>
                      </p:stCondLst>
                      <p:childTnLst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PIRAMIDE DE ALI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 pan en sus diferentes clases, el arroz, los cereales y otros granos deben integrar la base de la pirámide, y por ello ser el mayor porcentaje del menú diario. Ingerir de 6 a 11 porciones al día de estos alime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PIRAMIDE DE ALI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guen las verduras, se ubican en la base de la pirámide, debemos ingerir de 3 a 5 porciones diarias de este tipo de ali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uego las frutas, se ubican en el mismo nivel, debemos comer de 2 a 4 porciones diarias, de cualquier tipo de fru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0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PIRAMIDE DE ALI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s proteínas vegetales y animales tales como carne, aves, pescado, legumbres, huevo o nueces. Se ubican en la parte media de la pirámide. Debemos ingerir de 2 a 3 porciones dia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leche y sus derivados, se ubican en el mismo nivel,  debemos ingerir de 2 a 3 porciones de estos alime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0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PIRAMIDE DE ALI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s dulces, las grasas y las bebidas alco-hólicas, se ubican en la punta de la pirá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, comerse muy esporádic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fill="hold">
                      <p:stCondLst>
                        <p:cond delay="0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PIRAMIDE DE ALI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SERVACIONES: Estas normas están rezagadas respecto a recientes descubri-mientos en nutrición y salud por ejemplo comer demasiado carne roja es nocivo para la salud debido a su alto contenido de grasa saturada. Los pescados grasos, el aceite de oliva y de canola, reducen el riesgo de contraer trastornos cardiovascu-lares por ello debemos aumentar el consu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dur="indefinite" fill="hold">
                      <p:stCondLst>
                        <p:cond delay="0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PIRAMIDE DE ALI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s productos de harina refinada, deben comerse muy esporádicamente y los productos de granos enteros debemos incrementar su consumo por su mayor valor nutrimen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4" dur="1" fill="hold"/>
                                  <p:tgtEl>
                                    <p:spTgt spid="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PIRAMIDE DE ALI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RUPOS BASICOS DE ALIME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anes, cereales y granos, estos alimentos son una fuente valiosa de carbohidratos y de fib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Las verduras, deberían ser la base de su alimentación, pues son fuente indispensa-ble de vitaminas, minerales y fib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PIRAMIDE DE ALI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RUPOS BASICOS DE ALIME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s frutas tienen los nutrientes esencia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n buena fuente de carbohidratos, fibra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toquím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leche y sus derivados, son fuente importante de proteínas, minerales sobre todo el calcio y vitami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dor</dc:creator>
  <dc:description/>
  <dc:language>en-US</dc:language>
  <cp:lastModifiedBy>Administrador</cp:lastModifiedBy>
  <cp:revision>0</cp:revision>
  <dc:subject/>
  <dc:title>LA PIRAMIDE ALIMENTICIA Lo ideal es ingerir en la dieta dia</dc:title>
</cp:coreProperties>
</file>