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-360" y="-9096480"/>
            <a:ext cx="360" cy="195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9610B-80A0-410D-901B-F6CB20C2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49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6AA17-42EA-4544-8D97-9BF11315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5F596-A26C-4395-BFBA-4D21D455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1FA49-D735-4673-8690-EAF27716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1E058-0239-46F4-8A99-4A666E71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8B990-2ACD-4DD3-8190-0E62F522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172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821CF-EB7A-41D6-9428-37AF8344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49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3FC32-6F7C-4BEE-B2F2-0B0FC5D5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49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BBFCE-1132-4037-AD7E-F096E399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172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91059-6E04-4868-9757-D8B6A57C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7840" y="39650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18840" y="39650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8B677-FA44-4ACC-8287-BD333EC3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172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6F844-59BA-4CC6-953B-BC849E16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7840" y="39650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18840" y="39650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B4E0B-1C25-479D-A266-705E0ACC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7F38-F51F-40FE-84D0-7BF608A1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F414-11E6-4E72-9738-8321F3A1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03AE-8117-4DC9-ADB2-F02B83C6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D4E9-4D02-4A21-BC81-72204350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CCDF-7494-4BD0-974D-F5F80FD5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A5A6-F276-4992-BC51-0A1DF173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11E2-8F40-4AF8-AF7D-7DDD5F3B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14323-DDF8-4E10-9C4A-CAE50522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172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5ABA-BE4F-46C3-9BCE-6C434503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49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471E-AEE8-423D-8A29-230674D6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49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53DB-0B3A-4753-AE70-FAFE14AE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172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17E2-96D3-42A7-ADF7-6D00EEE8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7840" y="39650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18840" y="39650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4672-E32E-45CA-A37E-8BE2C5B6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41551-504E-41E8-BF48-6DDF9AB1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61871-B1E7-45BE-95E3-64C6AE62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71C08-6A54-48D7-81D0-D496E4DD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CE97E-9E05-47EC-8B93-83E92A61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953CE-FF91-43E9-91A1-B33BA545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D8E50-BA0D-4A91-917F-62637707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404A7-864E-45AD-9C2B-7D936C3B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87B3C-59A2-4E8E-AFF2-7A6C09B6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172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DEB79-E1B0-4080-BE13-A0EC798F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49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F7471-B8DD-43C8-967D-4BFEF72E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49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7AEC2-34D8-4687-A1C7-D4F746B0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172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ADBAC-2F82-4AC8-9CD9-007B3CDF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7840" y="39650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18840" y="39650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D56EC-4991-47FC-AB22-6B46EACC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9371B4-E2F9-4F54-9C1E-C3A5DE35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E7E29D-DB51-4948-9A7C-7BCD5AC4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307702-20F4-4E02-8B28-BAC59B4B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1B7EB-28CB-4DA1-A550-C4C9B0DC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F97E56-5B88-40B4-969A-C6490142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387B8E-9B1F-45E6-8CBD-30EBBC7C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73E587-8080-4AE6-B8D6-D4903170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505860-5FE2-4BF4-95FE-D57D77F9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172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A307BA-4206-4A0D-8194-AAA7795A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49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A25AE2-1D65-41EF-AA4B-BA2FC44A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49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AB5333-ACF5-4F9F-8983-01234864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172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9E8287-FF69-4841-A6FA-792B3436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7840" y="39650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18840" y="39650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24950F-2204-45CE-94D7-7EB2ABEA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DAF40-6405-44FF-BE90-812C7E29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9FBDD-EC9B-4881-8F56-E0667D2C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9FEB8-85B9-4735-950C-5FD798C0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F0DE5-690A-40E2-92C6-8DE8A5AD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E38E6-1D74-4B99-8EB0-40E6F7A5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FB496-7E30-43BF-B4CE-F8C35AF5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52985-9EB0-4D73-AD96-8EFF397E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590E4-1A0B-49A2-A812-FC0BA61E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172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F7109-4CB3-4CC7-9375-AEB49A30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49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4F106-2ACC-4376-8D42-A8C96CF6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49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89CC7-B6FE-4315-B2CA-E51BBECC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172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58CAB-816D-4782-B1AB-C0CDD2DF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E93FF-9E02-427D-91E3-2DBCC4FC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7840" y="39650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18840" y="39650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CE497-85F2-43E0-93DA-9E5AEC4C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1F87E-6EFE-4D31-A495-5AC027F8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D69AD-0334-4C68-8FF8-60BA1EA5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72174-BF49-4042-A55A-98E5EEAF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40A87-8045-4052-95E1-CDD22D60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3BC94-52C3-4926-BFD7-919C62CA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E6D2F-F5E1-405A-A12D-96FA38EE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6FDC6-205E-406D-A6EF-BF14BCBD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172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42A39-C957-4B0A-8E4C-04A51D77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49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9F9B0-E65C-4872-8D03-FA515FDF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8A342-6A91-42AE-9328-1EF7FB69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49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53332-C652-439F-B15B-E3F2C370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172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F3BE8-1508-406C-B1BF-8DC3E159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7840" y="39650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18840" y="39650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848E3-81D7-43E8-B1CF-A9497A1B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67092-06B2-4FB2-B71C-23B5033C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FF257-1388-4C95-B54C-33466469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3C203-1F9A-44E2-AD03-7EB53D4F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BD99A-2C03-42BB-9850-ED9C9C8E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2963F-D6EF-4042-9AE2-30E38578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A93BB-75C5-4B9F-8F76-57EF7396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19ABA-356B-4CEE-B1AC-0110854E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172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38BE7-009D-49E5-B657-F838F49E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172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1E36F-9BF1-4ADF-86B0-29404A75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49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6B202-3F18-4755-A0D1-FA81D946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49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E21C3-88D5-46EF-9FF3-4CFA3B66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172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58BDB-62AA-497C-AC07-5B3DC910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7840" y="39650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18840" y="39650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D3DA1-EB21-4C75-8811-7E97987B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7866F-54E9-41C3-9181-34962144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C1F09-4B4B-4401-89C3-9F29F4E1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E2B75-2AE4-44D6-964E-90BE0A07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3F154-1204-4A73-AFAA-B70460EB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70C32-2DCD-49A8-97C4-87D7F339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49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0E2AC-CFAF-4787-9D7B-99D4E858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7FBCE-5B93-46F0-A482-7AFAC59A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8B984-0880-41E0-999E-9F378C5B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172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8AC25-10A0-4BF4-8CED-C111E52C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49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92FBF-F37D-4400-99B7-45B96839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49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66C89-26CD-4F8C-ADF1-CD7A1E3E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1720" y="3965040"/>
            <a:ext cx="40136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A3883-2390-4CFB-9A5D-333CE193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7840" y="39650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18840" y="3965040"/>
            <a:ext cx="2648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7BF34-D872-4A67-B85B-FE75A288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FC5B9-B319-4633-BE9C-68C60343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E4EC4-401E-4D14-85C9-E78DAC5C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11FFE-2A71-4A3A-BBA6-EE899457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1" name=""/>
            <p:cNvSpPr/>
            <p:nvPr/>
          </p:nvSpPr>
          <p:spPr>
            <a:xfrm>
              <a:off x="8304120" y="1440"/>
              <a:ext cx="838440" cy="685512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79840" y="0"/>
              <a:ext cx="38088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7280" y="0"/>
              <a:ext cx="39996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89720" y="0"/>
              <a:ext cx="2286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3760" y="0"/>
              <a:ext cx="10666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0920" y="0"/>
              <a:ext cx="9907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444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2520" y="0"/>
              <a:ext cx="3812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4440" y="0"/>
              <a:ext cx="5335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49880"/>
              <a:ext cx="9142560" cy="70668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7280"/>
              <a:ext cx="9158400" cy="27612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47240"/>
            <a:ext cx="822492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3480"/>
            <a:ext cx="2129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6F257-D928-44DF-8635-21915D6D771B}" type="slidenum">
              <a:rPr b="0" lang="en-GB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64" name=""/>
            <p:cNvSpPr/>
            <p:nvPr/>
          </p:nvSpPr>
          <p:spPr>
            <a:xfrm>
              <a:off x="8304120" y="1440"/>
              <a:ext cx="838440" cy="685512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9840" y="0"/>
              <a:ext cx="38088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7280" y="0"/>
              <a:ext cx="39996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89720" y="0"/>
              <a:ext cx="2286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3760" y="0"/>
              <a:ext cx="10666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0920" y="0"/>
              <a:ext cx="9907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444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2520" y="0"/>
              <a:ext cx="3812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4440" y="0"/>
              <a:ext cx="5335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49880"/>
              <a:ext cx="9142560" cy="70668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7280"/>
              <a:ext cx="9158400" cy="27612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776772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28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29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6084CEB-1472-41C4-85DC-BA9CCB887A28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52000"/>
            <a:ext cx="82249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6840" y="1905120"/>
            <a:ext cx="8224920" cy="43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B725846-EE13-453B-B6D4-91AF413CE4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963440"/>
            <a:ext cx="7767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10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242157F-907B-42FB-BAD1-A51C717660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2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318960" y="1828800"/>
            <a:ext cx="8823600" cy="5027760"/>
            <a:chOff x="318960" y="1828800"/>
            <a:chExt cx="8823600" cy="5027760"/>
          </a:xfrm>
        </p:grpSpPr>
        <p:sp>
          <p:nvSpPr>
            <p:cNvPr id="209" name=""/>
            <p:cNvSpPr/>
            <p:nvPr/>
          </p:nvSpPr>
          <p:spPr>
            <a:xfrm>
              <a:off x="838080" y="4616280"/>
              <a:ext cx="8304480" cy="224028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3360" y="1828800"/>
              <a:ext cx="8809200" cy="502776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8080" y="4653000"/>
              <a:ext cx="830448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8080" y="1828800"/>
              <a:ext cx="73123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1828800"/>
              <a:ext cx="46080" cy="28321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6640" y="4608360"/>
              <a:ext cx="46080" cy="224820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8960" y="46083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8960" y="4608360"/>
              <a:ext cx="47880" cy="224820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dt" idx="13"/>
          </p:nvPr>
        </p:nvSpPr>
        <p:spPr>
          <a:xfrm>
            <a:off x="838080" y="6245280"/>
            <a:ext cx="18972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4"/>
          </p:nvPr>
        </p:nvSpPr>
        <p:spPr>
          <a:xfrm>
            <a:off x="342900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5"/>
          </p:nvPr>
        </p:nvSpPr>
        <p:spPr>
          <a:xfrm>
            <a:off x="6937200" y="6245280"/>
            <a:ext cx="18972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D155182-B6E8-446F-B4A0-FA64F7E551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title"/>
          </p:nvPr>
        </p:nvSpPr>
        <p:spPr>
          <a:xfrm>
            <a:off x="456840" y="-19440"/>
            <a:ext cx="838044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838080" y="1905120"/>
            <a:ext cx="8002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318960" y="1752480"/>
            <a:ext cx="8823600" cy="5127840"/>
            <a:chOff x="318960" y="1752480"/>
            <a:chExt cx="8823600" cy="5127840"/>
          </a:xfrm>
        </p:grpSpPr>
        <p:sp>
          <p:nvSpPr>
            <p:cNvPr id="259" name=""/>
            <p:cNvSpPr/>
            <p:nvPr/>
          </p:nvSpPr>
          <p:spPr>
            <a:xfrm>
              <a:off x="333360" y="1752480"/>
              <a:ext cx="8809200" cy="510408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8080" y="3808440"/>
              <a:ext cx="830448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8960" y="3773520"/>
              <a:ext cx="47880" cy="310680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8080" y="1752480"/>
              <a:ext cx="46080" cy="51181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67360" cy="28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990360" y="6245280"/>
            <a:ext cx="18968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ftr" idx="17"/>
          </p:nvPr>
        </p:nvSpPr>
        <p:spPr>
          <a:xfrm>
            <a:off x="346860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8"/>
          </p:nvPr>
        </p:nvSpPr>
        <p:spPr>
          <a:xfrm>
            <a:off x="6937200" y="6245280"/>
            <a:ext cx="18972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0150D9A-1297-451D-A8F6-156D34ED99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3800520" y="1789200"/>
            <a:ext cx="5358240" cy="5052960"/>
            <a:chOff x="3800520" y="1789200"/>
            <a:chExt cx="5358240" cy="5052960"/>
          </a:xfrm>
        </p:grpSpPr>
        <p:sp>
          <p:nvSpPr>
            <p:cNvPr id="306" name=""/>
            <p:cNvSpPr/>
            <p:nvPr/>
          </p:nvSpPr>
          <p:spPr>
            <a:xfrm>
              <a:off x="6718320" y="2166840"/>
              <a:ext cx="31428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27760" y="1881360"/>
              <a:ext cx="7452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020000">
              <a:off x="8268840" y="2374920"/>
              <a:ext cx="9720" cy="32893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37480" y="55674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20000">
              <a:off x="8720280" y="2436480"/>
              <a:ext cx="9360" cy="31701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20640000">
              <a:off x="8956440" y="241920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20460000">
              <a:off x="5465520" y="2882520"/>
              <a:ext cx="9360" cy="3225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140000">
              <a:off x="4381560" y="2892240"/>
              <a:ext cx="9360" cy="33620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40000">
              <a:off x="4820760" y="2968200"/>
              <a:ext cx="972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64440" y="4794120"/>
              <a:ext cx="99036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564320" y="5699160"/>
              <a:ext cx="15829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02480" y="5784840"/>
              <a:ext cx="1544760" cy="38880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31280" y="5699160"/>
              <a:ext cx="151596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578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578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57840" y="280512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9004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699400" y="2141640"/>
              <a:ext cx="1335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69004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623440" y="55944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791240" y="1789200"/>
              <a:ext cx="413676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57680" y="59878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02280" y="614520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09880" y="614520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79720" y="6091200"/>
              <a:ext cx="219420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0520" y="6084720"/>
              <a:ext cx="238752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75040" y="6126120"/>
              <a:ext cx="226548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45040" y="6012000"/>
              <a:ext cx="14292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613720" y="5718240"/>
              <a:ext cx="11448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30920" y="2813040"/>
              <a:ext cx="274680" cy="40291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1048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0248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38920" y="2427120"/>
              <a:ext cx="40176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2148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28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78400"/>
            <a:ext cx="2129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C5DC2CE-9127-4937-B5F9-64F2DE9583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3800520" y="1789200"/>
            <a:ext cx="5358240" cy="5052960"/>
            <a:chOff x="3800520" y="1789200"/>
            <a:chExt cx="5358240" cy="5052960"/>
          </a:xfrm>
        </p:grpSpPr>
        <p:sp>
          <p:nvSpPr>
            <p:cNvPr id="382" name=""/>
            <p:cNvSpPr/>
            <p:nvPr/>
          </p:nvSpPr>
          <p:spPr>
            <a:xfrm>
              <a:off x="6718320" y="2166840"/>
              <a:ext cx="31428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27760" y="1881360"/>
              <a:ext cx="7452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020000">
              <a:off x="8268840" y="2374920"/>
              <a:ext cx="9720" cy="32893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37480" y="55674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20000">
              <a:off x="8720280" y="2436480"/>
              <a:ext cx="9360" cy="31701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20640000">
              <a:off x="8956440" y="241920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20460000">
              <a:off x="5465520" y="2882520"/>
              <a:ext cx="9360" cy="3225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140000">
              <a:off x="4381560" y="2892240"/>
              <a:ext cx="9360" cy="33620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240000">
              <a:off x="4820760" y="2968200"/>
              <a:ext cx="972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64440" y="4794120"/>
              <a:ext cx="99036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564320" y="5699160"/>
              <a:ext cx="15829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02480" y="5784840"/>
              <a:ext cx="1544760" cy="38880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631280" y="5699160"/>
              <a:ext cx="151596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8578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578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57840" y="280512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69004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699400" y="2141640"/>
              <a:ext cx="1335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9004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623440" y="55944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91240" y="1789200"/>
              <a:ext cx="413676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657680" y="59878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002280" y="614520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09880" y="614520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79720" y="6091200"/>
              <a:ext cx="219420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00520" y="6084720"/>
              <a:ext cx="238752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75040" y="6126120"/>
              <a:ext cx="226548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45040" y="6012000"/>
              <a:ext cx="14292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613720" y="5718240"/>
              <a:ext cx="11448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30920" y="2813040"/>
              <a:ext cx="274680" cy="40291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81048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0248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38920" y="2427120"/>
              <a:ext cx="40176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62148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28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title"/>
          </p:nvPr>
        </p:nvSpPr>
        <p:spPr>
          <a:xfrm>
            <a:off x="685440" y="1766520"/>
            <a:ext cx="776772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78400"/>
            <a:ext cx="2129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16A4B3A-40DF-4BFA-918A-EAD14624C6A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-15840" y="-12600"/>
            <a:ext cx="9159840" cy="6870600"/>
            <a:chOff x="-15840" y="-12600"/>
            <a:chExt cx="9159840" cy="6870600"/>
          </a:xfrm>
        </p:grpSpPr>
        <p:sp>
          <p:nvSpPr>
            <p:cNvPr id="457" name=""/>
            <p:cNvSpPr/>
            <p:nvPr/>
          </p:nvSpPr>
          <p:spPr>
            <a:xfrm>
              <a:off x="-15840" y="66326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-15840" y="-1260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937640" y="-1260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7832880" y="37800"/>
              <a:ext cx="1295280" cy="6259680"/>
              <a:chOff x="7832880" y="37800"/>
              <a:chExt cx="1295280" cy="625968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8366040" y="37800"/>
                <a:ext cx="762120" cy="2221200"/>
                <a:chOff x="8366040" y="37800"/>
                <a:chExt cx="762120" cy="222120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8615520" y="37800"/>
                  <a:ext cx="419040" cy="181080"/>
                  <a:chOff x="8615520" y="37800"/>
                  <a:chExt cx="419040" cy="181080"/>
                </a:xfrm>
              </p:grpSpPr>
              <p:grpSp>
                <p:nvGrpSpPr>
                  <p:cNvPr id="463" name=""/>
                  <p:cNvGrpSpPr/>
                  <p:nvPr/>
                </p:nvGrpSpPr>
                <p:grpSpPr>
                  <a:xfrm>
                    <a:off x="8615520" y="37800"/>
                    <a:ext cx="419040" cy="181080"/>
                    <a:chOff x="8615520" y="37800"/>
                    <a:chExt cx="419040" cy="181080"/>
                  </a:xfrm>
                </p:grpSpPr>
                <p:sp>
                  <p:nvSpPr>
                    <p:cNvPr id="464" name=""/>
                    <p:cNvSpPr/>
                    <p:nvPr/>
                  </p:nvSpPr>
                  <p:spPr>
                    <a:xfrm rot="16200000">
                      <a:off x="8757360" y="-104040"/>
                      <a:ext cx="135000" cy="41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 rot="16200000">
                      <a:off x="8746920" y="1080"/>
                      <a:ext cx="95400" cy="33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6" name=""/>
                  <p:cNvSpPr/>
                  <p:nvPr/>
                </p:nvSpPr>
                <p:spPr>
                  <a:xfrm rot="16200000">
                    <a:off x="8806680" y="108360"/>
                    <a:ext cx="19080" cy="399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rot="16200000">
                    <a:off x="8712000" y="59760"/>
                    <a:ext cx="28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rot="16200000">
                    <a:off x="8829720" y="61560"/>
                    <a:ext cx="4284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16200000">
                    <a:off x="8916840" y="82440"/>
                    <a:ext cx="158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rot="16200000">
                    <a:off x="8825760" y="152640"/>
                    <a:ext cx="4284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rot="16200000">
                    <a:off x="8733600" y="128880"/>
                    <a:ext cx="2700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7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66040" y="2160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32960" y="2160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94640" y="52056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18680" y="901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32960" y="82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70960" y="120636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32960" y="1587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32960" y="1968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80" name=""/>
              <p:cNvGrpSpPr/>
              <p:nvPr/>
            </p:nvGrpSpPr>
            <p:grpSpPr>
              <a:xfrm>
                <a:off x="7832880" y="1587600"/>
                <a:ext cx="828360" cy="4709880"/>
                <a:chOff x="7832880" y="1587600"/>
                <a:chExt cx="828360" cy="4709880"/>
              </a:xfrm>
            </p:grpSpPr>
            <p:pic>
              <p:nvPicPr>
                <p:cNvPr id="48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37440" y="1587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13760" y="189216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37440" y="25020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66040" y="2730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985160" y="28828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61480" y="318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66040" y="326376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290080" y="372096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08840" y="349236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08840" y="3873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37440" y="4102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290080" y="2197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32880" y="4330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08840" y="486396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290080" y="5245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08840" y="5397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61480" y="5626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08840" y="600696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13760" y="5854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00" name=""/>
            <p:cNvSpPr/>
            <p:nvPr/>
          </p:nvSpPr>
          <p:spPr>
            <a:xfrm>
              <a:off x="7937640" y="4896000"/>
              <a:ext cx="1190520" cy="193968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923240" y="4844880"/>
              <a:ext cx="1219320" cy="200052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912080" y="28051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9af7d"/>
                </a:gs>
                <a:gs pos="50000">
                  <a:srgbClr val="375039"/>
                </a:gs>
                <a:gs pos="100000">
                  <a:srgbClr val="79af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994520" y="35258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228160" y="4143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234280" y="249120"/>
              <a:ext cx="909720" cy="307188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927920" y="-1260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27920" y="-11160"/>
              <a:ext cx="30024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850160" y="-1116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942320" y="621648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5400000">
              <a:off x="4311360" y="33037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360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25"/>
          </p:nvPr>
        </p:nvSpPr>
        <p:spPr>
          <a:xfrm>
            <a:off x="301320" y="6241680"/>
            <a:ext cx="1779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26"/>
          </p:nvPr>
        </p:nvSpPr>
        <p:spPr>
          <a:xfrm>
            <a:off x="2257200" y="6248160"/>
            <a:ext cx="345276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160"/>
            <a:ext cx="1752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9D385A3-F6D1-4DBD-9278-07F53F1A0A1E}" type="slidenum">
              <a:rPr b="0" lang="en-GB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hyperlink" Target="http://images.google.com.co/imgres?imgurl=http://www.cirugiaplastica.com.ve/images/proteinas.jpg&amp;imgrefurl=http://www.cirugiaplastica.com.ve/CanalDetalle.asp%3FId_Canal%3D10%26Id_Cirugia%3D151&amp;h=175&amp;w=222&amp;sz=13&amp;tbnid=aNfK5QA9I4WCiM:&amp;tbnh=84&amp;tbnw=107&amp;prev=/images%3Fq%3Dimagenes%2Bde%2Bproteinas%26um%3D1&amp;start=3&amp;sa=X&amp;oi=images&amp;ct=image&amp;cd=3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395280" y="314136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as proteínas son los constituyentes químicos fundamentales de la materia viva, son aquellos principios inmediatos orgánicos cuaternarios formados por carbono, hidrógeno, oxígeno y nitrógeno y en los que además puede intervenir el azufre y el fósfor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476360" y="620640"/>
            <a:ext cx="6767640" cy="237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as proteinas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81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bbd71"/>
                </a:solidFill>
                <a:latin typeface="Arial"/>
              </a:rPr>
              <a:t>Comer bien …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38988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ta de comer gran variedad de alimentos en forma moderad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do lo que comes balancéalo con ejercicio para tener buen pe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n una dieta baja en grasas y coleste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3814920" cy="34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65120"/>
            <a:ext cx="82281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Comer bien 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39607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 tu dieta cárgala de cereales verduras y fru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ume de forma moderada los azuca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ume alimentos bajos en s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6259680" y="2349360"/>
            <a:ext cx="2644560" cy="295128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4211640" y="2349360"/>
            <a:ext cx="20034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755280" y="3644640"/>
            <a:ext cx="793116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1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as proteínas constituyen alrededor del 50% del peso seco de los tejidos y no existe proceso biológico alguno que no dependa de la participación de este tipo de sustancias.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68360" y="765000"/>
            <a:ext cx="8351640" cy="194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oteinas en el hoy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24000" y="2924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n esenciales para el crecimiento. Las grasas y carbohidratos no las pueden sustituir, por no contener nitrógen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n materia prima para la formación de los jugos digestivos, hormonas, proteínas plasmáticas, hemoglobina, vitaminas y enzim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042920" y="981000"/>
            <a:ext cx="6913800" cy="165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FUNCION DE LAS PROTEINA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457200" y="2276640"/>
            <a:ext cx="4038480" cy="440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oy en dia comer sano es bueno para la salud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os distintos alimentos contienen tipo y cantidades de nutrientes como las proteinas, hidratos de carbono, grasas, minerales y vitaminas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755640" y="907920"/>
            <a:ext cx="676908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63924" dir="14050137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ROTEINAS RECOMENDADAS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63924" dir="14050137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349360"/>
            <a:ext cx="4176720" cy="37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250560" y="1916280"/>
            <a:ext cx="4452840" cy="45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Actualmente las proteínas también toman un papel muy importante en nuestra alimentación. Pero no con el mismo valor alimenticio a causa de los químicos , pierden sus nutrient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539640" y="333360"/>
            <a:ext cx="7704360" cy="12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LIMENTOS EN LAS DIETAS ALIMENTICIA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5219640" y="2133720"/>
            <a:ext cx="342108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0" y="2637000"/>
            <a:ext cx="5796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La mayor proporción de proteína de origen animal para consumo humano ,la aporta el grupo de las carnes rojas y es el 50y60 a nivel mundial .sin embargo los niveles de producción de carnes rojas y en especial la carne de cerdo están concentrados en países desarrollado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26920" y="404640"/>
            <a:ext cx="7667640" cy="194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yor fuente de proteina a nivel mundia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5724360" y="2276640"/>
            <a:ext cx="304992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-2081520"/>
            <a:ext cx="82281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Las proteínas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GB" sz="42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GB" sz="4200" spc="-1" strike="noStrike">
                <a:solidFill>
                  <a:srgbClr val="ff0000"/>
                </a:solidFill>
                <a:latin typeface="Tahoma"/>
              </a:rPr>
              <a:t>                          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3236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 mayor proporción de proteína a nivel mundial son las carnes rojas, y en especial carne de cer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 Colombia el pescado es considerado como mayor fuente de proteí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38292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599760"/>
            <a:ext cx="82281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Funciones de los aliment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7020000" y="2349360"/>
            <a:ext cx="1922400" cy="216072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4140360" cy="31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 leche y sus derivados, carne y pescado son ricos en cal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s carnes huevos y pescados nos proporcionan las proteín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3"/>
          <a:stretch/>
        </p:blipFill>
        <p:spPr>
          <a:xfrm>
            <a:off x="4500720" y="2349360"/>
            <a:ext cx="238104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s patatas legumbres y frutas son alimentos energéticos y regul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s verduras son ricas en vitaminas y minera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s cereales aceites azucares y grasas son llamados energétic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5148360" y="1844640"/>
            <a:ext cx="3564000" cy="3152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dor</dc:creator>
  <dc:description/>
  <dc:language>en-US</dc:language>
  <cp:lastModifiedBy>Yarima</cp:lastModifiedBy>
  <cp:revision>0</cp:revision>
  <dc:subject/>
  <dc:title>Las proteínas                                                  </dc:title>
</cp:coreProperties>
</file>