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CA19-6298-45AB-8997-CF6105CE2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A816-B9BA-4002-91C1-8C2CDCCA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AD2F-223F-4FD0-9805-387ACED7F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2D18-4D17-496B-BCF4-A07484B74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A4DD-2CCD-4745-8718-913F67C2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777B-305F-4110-849C-7A6340B2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F4AC-25B0-4BF5-8FF1-4A876EBA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9E3C-F272-4E10-9BC0-B699EFE2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8AE0-1BAD-42FC-B059-C43FDB23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68EF-EA32-4203-9D9A-AAFEB86F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5256-3085-42CE-9F7B-B1843F67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607D-AA2C-4509-A1F8-96EACFF9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6DA9-7275-4C25-A5D0-7EAC8F7A5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83908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ffff00"/>
                </a:solidFill>
                <a:latin typeface="Arial"/>
              </a:rPr>
              <a:t>Cálc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ffffff"/>
                </a:solidFill>
                <a:latin typeface="Arial"/>
              </a:rPr>
              <a:t>Teorema de Pitágo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ffffff"/>
                </a:solidFill>
                <a:latin typeface="Arial"/>
              </a:rPr>
              <a:t>Presentado por: </a:t>
            </a:r>
            <a:r>
              <a:rPr b="1" lang="es-C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O" sz="3200" spc="-1" strike="noStrike">
                <a:solidFill>
                  <a:srgbClr val="ffffff"/>
                </a:solidFill>
                <a:latin typeface="Arial"/>
              </a:rPr>
              <a:t>  Diana Aristizá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O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CO" sz="3200" spc="-1" strike="noStrike">
                <a:solidFill>
                  <a:srgbClr val="ffffff"/>
                </a:solidFill>
                <a:latin typeface="Arial"/>
              </a:rPr>
              <a:t>Diana Ro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ffffff"/>
                </a:solidFill>
                <a:latin typeface="Arial"/>
              </a:rPr>
              <a:t>Presentado a: Míguel LaTor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5441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835280" y="620640"/>
            <a:ext cx="5040360" cy="5329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54419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8360" y="47628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00"/>
                </a:solidFill>
                <a:latin typeface="Arial"/>
              </a:rPr>
              <a:t>Teorema de Pitágo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340000" y="3933720"/>
            <a:ext cx="4753080" cy="550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55640" y="1844640"/>
            <a:ext cx="777240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Teorema de Pitágoras, teorema que relaciona los tres lados de un triángulo rectángulo, y que establece que el cuadrado del lado mayor (hipotenusa) es igual a la suma de los cuadrados de los otros dos lados (catetos).</a:t>
            </a:r>
            <a:br>
              <a:rPr sz="2000"/>
            </a:br>
            <a:br>
              <a:rPr sz="2000"/>
            </a:b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El teorema de Pitágoras permite calcular uno de los lados de un triángulo rectángulo si se conocen los otros dos. Así, permite calcular la hipotenusa a partir de los dos catetos: </a:t>
            </a:r>
            <a:br>
              <a:rPr sz="2000"/>
            </a:b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o bien, calcular un cateto conocidos la hipotenusa y el otro cateto: </a:t>
            </a:r>
            <a:br>
              <a:rPr sz="2000"/>
            </a:b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b=  </a:t>
            </a:r>
            <a:r>
              <a:rPr b="0" lang="es-CO" sz="2000" spc="-1" strike="noStrike">
                <a:solidFill>
                  <a:srgbClr val="ffffff"/>
                </a:solidFill>
                <a:latin typeface="Symbol"/>
                <a:ea typeface="Symbol"/>
              </a:rPr>
              <a:t></a:t>
            </a:r>
            <a:r>
              <a:rPr b="0" lang="es-CO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s-CO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s-CO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c</a:t>
            </a:r>
            <a:r>
              <a:rPr b="0" lang="es-CO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5327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854419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fff00"/>
                </a:solidFill>
                <a:latin typeface="Arial"/>
              </a:rPr>
              <a:t>Demostración matemá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8280360" cy="4680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854419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0920" y="692280"/>
            <a:ext cx="8642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Arial"/>
              </a:rPr>
              <a:t>Estos diagramas se pueden utilizar para demostrar el teorema de Pitágoras, que dice que si un triángulo rectángulo tiene catetos A y B e hipotenusa C, entonces A2 + B2 = C2. Las figuras 1 y 2 contienen ambas cuatro triángulos rectángulos con catetos A y B e hipotenusa C. Dado que ambas figuras tienen la misma área, si se eliminan los cuatro triángulos de la figura 1, el área restante debe ser igual a la que queda si se eliminan de la figura 2. En la figura 1, el área restante es A2 + B2, y en la figura 2, es C2. Por tanto, A2 + B2 = C2, lo que demuestra el teorema de Pitágo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8390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854419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21:45:38Z</dcterms:created>
  <dc:creator>Juan Carlos Oliveros</dc:creator>
  <dc:description/>
  <dc:language>en-US</dc:language>
  <cp:lastModifiedBy>Juan Carlos Oliveros</cp:lastModifiedBy>
  <dcterms:modified xsi:type="dcterms:W3CDTF">2005-11-14T22:24:56Z</dcterms:modified>
  <cp:revision>4</cp:revision>
  <dc:subject/>
  <dc:title>Diapositiva 1</dc:title>
</cp:coreProperties>
</file>