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FB9-BC9C-4343-86DC-E64FB84D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289-6915-4E82-9BD3-32672C56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CFC-1C0F-46F5-9353-FCE63038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83A-66C2-4497-80C3-469FA2DD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997-54AF-428F-BE76-80DB800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AA0-C827-42A0-B496-2619D67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139-2A33-4DD9-8CE7-BD36991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5DD-DC10-4471-9704-E9B1CF23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320-6C82-4445-9089-A54B232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BFA-BC04-408A-B95D-9447E45A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B25-E559-4B5B-9A8D-C93CDBA7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94D-A10D-4E50-A9E4-8D20F694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ECD-78BC-4356-B973-E153F645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452520"/>
            <a:ext cx="6913800" cy="2400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11280" y="3595680"/>
            <a:ext cx="42483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214" t="1752" r="2252" b="2190"/>
          <a:stretch/>
        </p:blipFill>
        <p:spPr>
          <a:xfrm>
            <a:off x="1403280" y="260280"/>
            <a:ext cx="619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59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7640" cy="199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915" b="0"/>
          <a:stretch/>
        </p:blipFill>
        <p:spPr>
          <a:xfrm>
            <a:off x="682560" y="2565360"/>
            <a:ext cx="7705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6:41:34Z</dcterms:created>
  <dc:creator>Usuario Microsoft</dc:creator>
  <dc:description/>
  <dc:language>en-US</dc:language>
  <cp:lastModifiedBy>Usuario Microsoft</cp:lastModifiedBy>
  <dcterms:modified xsi:type="dcterms:W3CDTF">2007-09-04T16:57:12Z</dcterms:modified>
  <cp:revision>5</cp:revision>
  <dc:subject/>
  <dc:title>Diapositiva 1</dc:title>
</cp:coreProperties>
</file>